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4.jpeg" ContentType="image/jpeg"/>
  <Override PartName="/ppt/media/image40.png" ContentType="image/png"/>
  <Override PartName="/ppt/media/image5.jpeg" ContentType="image/jpeg"/>
  <Override PartName="/ppt/media/image50.png" ContentType="image/png"/>
  <Override PartName="/ppt/media/image35.png" ContentType="image/png"/>
  <Override PartName="/ppt/media/image36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34.png" ContentType="image/png"/>
  <Override PartName="/ppt/media/image39.png" ContentType="image/png"/>
  <Override PartName="/ppt/media/image9.png" ContentType="image/png"/>
  <Override PartName="/ppt/media/image32.png" ContentType="image/png"/>
  <Override PartName="/ppt/media/image30.png" ContentType="image/png"/>
  <Override PartName="/ppt/media/image11.png" ContentType="image/png"/>
  <Override PartName="/ppt/media/image48.png" ContentType="image/png"/>
  <Override PartName="/ppt/media/image13.png" ContentType="image/png"/>
  <Override PartName="/ppt/media/image10.png" ContentType="image/png"/>
  <Override PartName="/ppt/media/image47.png" ContentType="image/png"/>
  <Override PartName="/ppt/media/image49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8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  <p:sldId id="310" r:id="rId63"/>
    <p:sldId id="311" r:id="rId64"/>
    <p:sldId id="312" r:id="rId65"/>
    <p:sldId id="313" r:id="rId66"/>
    <p:sldId id="314" r:id="rId67"/>
    <p:sldId id="315" r:id="rId68"/>
    <p:sldId id="316" r:id="rId69"/>
    <p:sldId id="317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slide" Target="slides/slide55.xml"/><Relationship Id="rId64" Type="http://schemas.openxmlformats.org/officeDocument/2006/relationships/slide" Target="slides/slide56.xml"/><Relationship Id="rId65" Type="http://schemas.openxmlformats.org/officeDocument/2006/relationships/slide" Target="slides/slide57.xml"/><Relationship Id="rId66" Type="http://schemas.openxmlformats.org/officeDocument/2006/relationships/slide" Target="slides/slide58.xml"/><Relationship Id="rId67" Type="http://schemas.openxmlformats.org/officeDocument/2006/relationships/slide" Target="slides/slide59.xml"/><Relationship Id="rId68" Type="http://schemas.openxmlformats.org/officeDocument/2006/relationships/slide" Target="slides/slide60.xml"/><Relationship Id="rId69" Type="http://schemas.openxmlformats.org/officeDocument/2006/relationships/slide" Target="slides/slide61.xml"/><Relationship Id="rId70" Type="http://schemas.openxmlformats.org/officeDocument/2006/relationships/slide" Target="slides/slide62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dt" idx="19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20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 type="sldNum" idx="21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41CEA-F2F4-4B4D-924E-44F705A9CEBA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Symbol zastępczy numeru slajd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4564D-E455-4D87-B57C-16ECEED7152F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FCDE-9D44-4A18-A0E9-B063F2BA5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11F4-0FDB-416C-9133-D27CDBA22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370A-7AF3-478F-B451-2C52A0DE7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0054-418E-4A70-AF86-517493155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CF83E-3955-4308-90C2-22B438ABD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AF412-70EF-40DF-B165-FC8460DBE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37ADE-D1A9-494F-95EA-FAFB68FE8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B042F-CB22-4952-8AF2-043D899E3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4E763-9271-44D0-A42E-17C4CC99B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154C4-9961-4812-BF71-D9ABD7DB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69AB8-3CD5-4D88-9E08-223580BB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D358-5931-4E82-91FC-A4BE3DC4C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0C47D-696F-415B-970B-323E8B51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8AC7C-5759-42EC-9511-1ABFA2A2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E6B87-89CD-4044-B6A8-E0D6F6076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0F0F9-7EF8-40E0-880B-C1D587A27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76D01-C31A-49B3-B358-E6D108F2B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CB89E-BBB5-460A-8054-995E3CE01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300DB-A9E4-4FB8-B539-5D1814EE6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E90E5-6DCE-43C3-886C-EBBA9049B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BBDC6-9DFA-472D-8236-E6A33B513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8B079-2D5A-415A-9733-EA1586F73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2BAD-038B-43C3-9658-55CDEFE76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6EF2A-65CE-40D3-B07D-7C559D013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F6351-F7A5-4E23-96CD-DEA94DE1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21C8A-1DFA-47BE-AD9D-4BD7B63C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A4FE6-1AC0-41EB-BD5C-29A38443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33323-43CA-4720-AF0E-43F821AAA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490FE-521F-478C-8D5F-5C4775F02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F404A-BE64-4283-8A9D-E309B9845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FFFAD-7B90-4459-A336-0CE20890F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7536D-523A-4525-B3F3-E19DA3024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15F5B-735F-4E48-8F91-02F291E4B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6E06-D4C1-4621-AEA2-78C7D0553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A6D38-88D5-4481-ABB5-B3B19825D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80835-D6C8-44F4-8397-670FEA3CD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69A6F-7603-4052-8353-F72486F00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B2233-9388-4D7E-AD48-0E35B8A8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55E2D-0B21-4E26-BCB9-CB035046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CC5F9-7166-41E2-9966-594CEC54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EAA1C-88AF-4314-A234-0C5429D1A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B63BD-0644-4EF6-A90A-E5C192F89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A8BCA-0F47-403E-AE1D-4E50F2905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9779C-B194-4ECC-A7D5-B98CEB695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5CCD-0B06-4D9E-A35F-9B4A71244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43E0C-3624-4C05-8E8D-22DFD8799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E51CB-33C6-469F-A3F5-C1FA42237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F8448-B1BA-4F1C-A0CF-E04DA943A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33006-08F3-4AA5-A328-AB929E64F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61AB0-C1E8-45EE-AE38-4A20D1D6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F00C2-8BCD-4D95-A16C-AFE1CB85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A25C0-AA32-4802-A7F7-A5D26F26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3300F-A003-4710-A22E-98C0417A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C3A6E-2DF3-432C-9354-F83975BD9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D9146-3772-4662-B4F4-27E92F767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E3A0-683C-47B9-8846-1579BB676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CE73A-CA02-4286-BEF5-D9DC74C7A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7C7E6-9C85-4B53-8FA3-9FA96F911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DC4E3-1D46-4A25-B380-5200AFA02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AC378-E61C-4117-A111-02223CDCE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D119C-260A-4E8F-A213-730D787A0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ABFB24-120E-4C24-8625-FB677F791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CACEB0-456F-4A4F-8052-15D1C51D9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4F86B-F762-4360-8288-1A612AD5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E9864-0DA2-4514-ADDB-DFDB6F12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2CF0B-E53F-48C6-8132-0C5C8FBB4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BE0F-05D8-43E7-9F8B-0AEA6EEF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EA48D-F9C4-471B-8B07-B6B82BD3E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72DBB-8D8C-430D-9F39-D470EE244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72F3D-10B6-410D-84D8-E656FA12C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EBE9-5992-4C2A-9E2B-6FA86C49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2183-4A73-4EE2-8458-42F31197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Prostokąt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Prostokąt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00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DE6A1-EEF5-46B1-A4A0-C17B8440402D}" type="slidenum">
              <a:rPr b="0" lang="pl-PL" sz="1100" spc="-1" strike="noStrike">
                <a:solidFill>
                  <a:srgbClr val="00ff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2640" indent="-169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5720" indent="-169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198440" indent="-169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1520" indent="-169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1520" indent="-169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1520" indent="-169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7F3E2-0295-4F04-BA0D-724981021CA7}" type="slidenum">
              <a:rPr b="0" lang="pl-PL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Prostokąt 1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86" name="Prostokąt 1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Łącznik prosty 4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CFCE2-E3AB-4F69-8376-77D78C89A1C9}" type="slidenum">
              <a:rPr b="0" lang="pl-P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Prostokąt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31" name="Prostokąt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00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0FA9B-91B2-470A-9B0F-7557E9DE2FF1}" type="slidenum">
              <a:rPr b="0" lang="pl-PL" sz="1100" spc="-1" strike="noStrike">
                <a:solidFill>
                  <a:srgbClr val="00ff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rostokąt 1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rostokąt 4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ff99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00ff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ED0F3-0DDB-4CE8-B414-5D7DDC57616A}" type="slidenum">
              <a:rPr b="0" lang="pl-PL" sz="1100" spc="-1" strike="noStrike">
                <a:solidFill>
                  <a:srgbClr val="00ff9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Prostokąt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218" name="Prostokąt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00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FF39E-FEFB-41C2-8C22-53FE46E60C0B}" type="slidenum">
              <a:rPr b="0" lang="pl-PL" sz="1100" spc="-1" strike="noStrike">
                <a:solidFill>
                  <a:srgbClr val="00ff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ole tekstowe 3"/>
          <p:cNvSpPr/>
          <p:nvPr/>
        </p:nvSpPr>
        <p:spPr>
          <a:xfrm>
            <a:off x="352440" y="3390840"/>
            <a:ext cx="500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Studia podyplomow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Zarządzanie jakością wg norm ISO 9000” ed. 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ole tekstowe 4"/>
          <p:cNvSpPr/>
          <p:nvPr/>
        </p:nvSpPr>
        <p:spPr>
          <a:xfrm>
            <a:off x="352440" y="4170240"/>
            <a:ext cx="559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Omówienie i analiza norm serii ISO 14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ole tekstowe 5"/>
          <p:cNvSpPr/>
          <p:nvPr/>
        </p:nvSpPr>
        <p:spPr>
          <a:xfrm>
            <a:off x="352440" y="4902120"/>
            <a:ext cx="41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Wioletta Kure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ole tekstowe 6"/>
          <p:cNvSpPr/>
          <p:nvPr/>
        </p:nvSpPr>
        <p:spPr>
          <a:xfrm>
            <a:off x="352440" y="5178600"/>
            <a:ext cx="41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data: 17.06.20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Tytuł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30200" y="14616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Należy określić czynniki zewnętrzne i wewnętrzne istotne dla celu jej działania i takie, które wpływają na zdolność organizacji do osiągniecia zamierzonych wyników jej systemu zarządzania środowiskowego. Czynniki takie powinny obejmować warunki środowiskowe będące pod wpływem organizacji lub mogące mieć wpływ na organizacj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ymbol zastępczy numeru slajdu 3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2E2F3-0D77-4811-A555-88CD44C6DEC5}" type="slidenum">
              <a:rPr b="0" lang="pl-PL" sz="1100" spc="-1" strike="noStrike">
                <a:solidFill>
                  <a:srgbClr val="00ff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ytuł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Warunki środowiskowe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związane z klimatem, jakością powietrza, jakością wody, wykorzystaniem powierzchni ziemi, istniejącym zanieczyszczeniem, dostępnością zasobów naturalnych i bioróżnorodnością, które mogą wpływać na cel organizacji lub być pod wpływem jej aspektów środowiskowyc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Zewnętrzne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uwarunkowania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ulturowe, społeczne, polityczne, prawne, regulacyjne, finansowe, technologiczne, ekonomiczne, przyrodnicze i związane z konkurencyjnością na poziomie międzynarodowym, krajowym, regionalnym czy lokalnym;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Wewnętrzne uwarunkowania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acji, takie jak specyfika działań, wyrobów i usług organizacji; strategiczny kierunek rozwoju, kultura i zasoby (tj. ludzie, wiedza, procesy, systemy).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ymbol zastępczy numeru slajdu 3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BCB60-0049-4CA5-93EE-93E54FBA3017}" type="slidenum">
              <a:rPr b="0" lang="pl-PL" sz="1100" spc="-1" strike="noStrike">
                <a:solidFill>
                  <a:srgbClr val="00ff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ytuł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8290080" cy="11397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rganizacja powinna określić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Strony zainteresowane istotne dla systemu zarządzania środowiskoweg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Istotne potrzeby i oczekiwania (wymagania) stron zainteresowany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Które z tych potrzeb i oczekiwań stają się jej zobowiązaniami dotyczącymi zgodnośc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ymbol zastępczy numeru slajdu 3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71AE7-5E03-427F-9D77-2F8EEEAFF191}" type="slidenum">
              <a:rPr b="0" lang="pl-PL" sz="1100" spc="-1" strike="noStrike">
                <a:solidFill>
                  <a:srgbClr val="00ff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Tytuł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931160" cy="6998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178920" y="1025640"/>
            <a:ext cx="871380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rganizacja powinna określić granice i możliwości zastosowania systemu ZŚ w celu ustalenia jego zakres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y określaniu zakresu należy rozważyć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zynniki wewnętrzne i zewnętrzne dot. kontekst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obowiązania dot. zgodności (stron zainteresowany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cc"/>
                </a:solidFill>
                <a:latin typeface="Arial"/>
              </a:rPr>
              <a:t>swoje jednostki organizacyjne, funkcje i granice fizycz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łasne działania, wyroby i usłu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łasne uprawnienia i możliwości sprawowania nadzoru i wywierania wpływ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kres powinien być utrzymywany </a:t>
            </a:r>
            <a:r>
              <a:rPr b="0" lang="pl-PL" sz="2400" spc="-1" strike="noStrike">
                <a:solidFill>
                  <a:srgbClr val="ff0000"/>
                </a:solidFill>
                <a:latin typeface="Arial"/>
              </a:rPr>
              <a:t>jako udokumentowana informacja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 być dostępny dla stron zainteresowany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Segoe UI"/>
              </a:rPr>
              <a:t>Zakres systemu może obejmować całą organizację, określone funkcje organizacji, specyficzne i określone części organizacji, jedną lub więcej funkcji w grupie organizac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ymbol zastępczy numeru slajdu 3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FF2C8-95C4-4747-AE0D-E68898982378}" type="slidenum">
              <a:rPr b="0" lang="pl-PL" sz="1100" spc="-1" strike="noStrike">
                <a:solidFill>
                  <a:srgbClr val="00ff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1023b0"/>
                </a:solidFill>
                <a:latin typeface="Arial"/>
              </a:rPr>
              <a:t>Przywództw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Symbol zastępczy daty 3"/>
          <p:cNvSpPr/>
          <p:nvPr/>
        </p:nvSpPr>
        <p:spPr>
          <a:xfrm>
            <a:off x="457200" y="6029280"/>
            <a:ext cx="2133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81E54-8F60-4C8E-8037-25755C0E7481}" type="datetime">
              <a:rPr b="0" lang="pl-PL" sz="1200" spc="-1" strike="noStrike">
                <a:solidFill>
                  <a:srgbClr val="00ff00"/>
                </a:solidFill>
                <a:latin typeface="Arial"/>
              </a:rPr>
              <a:t>30.07.26</a:t>
            </a:fld>
            <a:r>
              <a:rPr b="0" lang="pl-PL" sz="1200" spc="-1" strike="noStrike">
                <a:solidFill>
                  <a:srgbClr val="00ff00"/>
                </a:solidFill>
                <a:latin typeface="Arial"/>
              </a:rPr>
              <a:t> </a:t>
            </a:r>
            <a:fld id="{A92B36F5-4D4F-4CD7-89EA-EB1BF0E9054B}" type="datetime12">
              <a:rPr b="0" lang="pl-PL" sz="1200" spc="-1" strike="noStrike">
                <a:solidFill>
                  <a:srgbClr val="00ff00"/>
                </a:solidFill>
                <a:latin typeface="Arial"/>
              </a:rPr>
              <a:t>02:09 AM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Symbol zastępczy numeru slajdu 5"/>
          <p:cNvSpPr/>
          <p:nvPr/>
        </p:nvSpPr>
        <p:spPr>
          <a:xfrm>
            <a:off x="6553080" y="6029280"/>
            <a:ext cx="2133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32E7A-288E-407E-BC88-DEE60A9C5B2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Rectangle 2" descr=""/>
          <p:cNvPicPr/>
          <p:nvPr/>
        </p:nvPicPr>
        <p:blipFill>
          <a:blip r:embed="rId1"/>
          <a:stretch/>
        </p:blipFill>
        <p:spPr>
          <a:xfrm>
            <a:off x="407880" y="476280"/>
            <a:ext cx="8583840" cy="105408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250560" y="1633680"/>
            <a:ext cx="8569080" cy="45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Najwyższe kierownictwo powinno wykazać swoje  przywództwo i zaangażowanie poprzez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yjęcie odpowiedzialności za skuteczność systemu zarządzania środowiskie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pewnienie, że polityka i cele są ustanowione i są zgodne z kierunkiem strategicznym i kontekstem organizac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pewnienie integracji wymagań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ystemu z działaniami procesów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iznesowych organizacji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5" descr=""/>
          <p:cNvPicPr/>
          <p:nvPr/>
        </p:nvPicPr>
        <p:blipFill>
          <a:blip r:embed="rId2"/>
          <a:stretch/>
        </p:blipFill>
        <p:spPr>
          <a:xfrm>
            <a:off x="6148440" y="4835520"/>
            <a:ext cx="2565360" cy="98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Tytuł 1" descr=""/>
          <p:cNvPicPr/>
          <p:nvPr/>
        </p:nvPicPr>
        <p:blipFill>
          <a:blip r:embed="rId1"/>
          <a:stretch/>
        </p:blipFill>
        <p:spPr>
          <a:xfrm>
            <a:off x="457200" y="517680"/>
            <a:ext cx="8229600" cy="65232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252000" y="1170000"/>
            <a:ext cx="8891640" cy="54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pewnienie zasobów do systemu zarządzani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omunikowanie znaczenia skutecznego zarządzania środowiskowego i zgodności z wymaganiami systemu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pewnienie, że system zarządzania osiąga zamierzone wynik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ierowanie i wspieranie osób, które mają wpływ na skuteczność systemu zarządzania środowiskoweg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mowanie ciągłego doskonaleni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spieranie innych ról zarządczych, w celu wykazania przywództwa w obszarach za które odpowiadaj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Rectangle 2" descr=""/>
          <p:cNvPicPr/>
          <p:nvPr/>
        </p:nvPicPr>
        <p:blipFill>
          <a:blip r:embed="rId1"/>
          <a:stretch/>
        </p:blipFill>
        <p:spPr>
          <a:xfrm>
            <a:off x="1371600" y="152280"/>
            <a:ext cx="7772400" cy="11462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0" y="98100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Najwyższe kierownictwo powinno określić politykę środowiskową organizacji tak, aby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-28548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Arial"/>
              </a:rPr>
              <a:t>była odpowiednia do celu istnienia organizacji i kontekstu, w tym charakteru i skali wpływów na środowisko jej działań, wyrobów i usług</a:t>
            </a:r>
            <a:endParaRPr b="0" lang="en-US" sz="2300" spc="-1" strike="noStrike">
              <a:solidFill>
                <a:srgbClr val="6c6c6c"/>
              </a:solidFill>
              <a:latin typeface="Arial"/>
            </a:endParaRPr>
          </a:p>
          <a:p>
            <a:pPr lvl="1" marL="765000" indent="-28548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Arial"/>
              </a:rPr>
              <a:t>tworzyła ramy do ustanowienia celów środowiskowych</a:t>
            </a:r>
            <a:endParaRPr b="0" lang="en-US" sz="2300" spc="-1" strike="noStrike">
              <a:solidFill>
                <a:srgbClr val="6c6c6c"/>
              </a:solidFill>
              <a:latin typeface="Arial"/>
            </a:endParaRPr>
          </a:p>
          <a:p>
            <a:pPr lvl="1" marL="765000" indent="-28548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Arial"/>
              </a:rPr>
              <a:t>zawierała zobowiązanie do ochrony środowiska, w tym zapobiegania zanieczyszczeniom oraz specyficzne zobowiązania wynikające z kontekstu;</a:t>
            </a:r>
            <a:endParaRPr b="0" lang="en-US" sz="2300" spc="-1" strike="noStrike">
              <a:solidFill>
                <a:srgbClr val="6c6c6c"/>
              </a:solidFill>
              <a:latin typeface="Arial"/>
            </a:endParaRPr>
          </a:p>
          <a:p>
            <a:pPr lvl="1" marL="765000" indent="-28548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Arial"/>
              </a:rPr>
              <a:t>zawierała zobowiązanie do spełnienia zobowiązań dotyczących zgodności</a:t>
            </a:r>
            <a:endParaRPr b="0" lang="en-US" sz="2300" spc="-1" strike="noStrike">
              <a:solidFill>
                <a:srgbClr val="6c6c6c"/>
              </a:solidFill>
              <a:latin typeface="Arial"/>
            </a:endParaRPr>
          </a:p>
          <a:p>
            <a:pPr lvl="1" marL="765000" indent="-28548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Arial"/>
              </a:rPr>
              <a:t>zawierała zobowiązanie do ciągłego doskonalenia systemu w celu poprawy środowiskowych efektów działalności.</a:t>
            </a:r>
            <a:endParaRPr b="0" lang="en-US" sz="2300" spc="-1" strike="noStrike">
              <a:solidFill>
                <a:srgbClr val="6c6c6c"/>
              </a:solidFill>
              <a:latin typeface="Arial"/>
            </a:endParaRPr>
          </a:p>
        </p:txBody>
      </p:sp>
      <p:sp>
        <p:nvSpPr>
          <p:cNvPr id="339" name="Symbol zastępczy numeru slajdu 5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44C54-C055-4F87-B3A4-23490803F51E}" type="slidenum">
              <a:rPr b="0" lang="pl-PL" sz="1100" spc="-1" strike="noStrike">
                <a:solidFill>
                  <a:srgbClr val="00ff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Tytuł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6570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250920" y="1197000"/>
            <a:ext cx="7921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Arial"/>
              </a:rPr>
              <a:t>Polityka środowiskowa powinna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Arial"/>
              </a:rPr>
              <a:t>być utrzymywana w postaci </a:t>
            </a:r>
            <a:r>
              <a:rPr b="0" lang="pl-PL" sz="2300" spc="-1" strike="noStrike">
                <a:solidFill>
                  <a:srgbClr val="ff0000"/>
                </a:solidFill>
                <a:latin typeface="Arial"/>
              </a:rPr>
              <a:t>udokumentowanej informacji</a:t>
            </a:r>
            <a:r>
              <a:rPr b="0" lang="pl-PL" sz="23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Arial"/>
              </a:rPr>
              <a:t>być komunikowana w ramach organizacji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Arial"/>
              </a:rPr>
              <a:t>być dostępna dla zainteresowanych str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ymbol zastępczy numeru slajdu 3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A460B-1B5C-4918-833E-B87C7F8439C3}" type="slidenum">
              <a:rPr b="0" lang="pl-PL" sz="1100" spc="-1" strike="noStrike">
                <a:solidFill>
                  <a:srgbClr val="00ff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Tytuł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 txBox="1"/>
          <p:nvPr/>
        </p:nvSpPr>
        <p:spPr>
          <a:xfrm>
            <a:off x="457200" y="1609200"/>
            <a:ext cx="829152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Najwyższe kierownictwo powinno zapewnić, aby odpowiedzialności i uprawnienia osób pełniących istotne role zostały przydzielone i zakomunikowane w organizacj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dpowiedzialności i uprawnienia powinny być przydzielone w zakresi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Zapewnienia zgodności systemu ZŚ z wymaganiami niniejszej norm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zedstawianie najwyższemu kierownictwu sprawozdań dotyczących efektów działania systemu, w tym środowiskowych efektów działalnośc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ymbol zastępczy numeru slajdu 3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F58E7-FC5D-4074-A3E3-96AEE738524B}" type="slidenum">
              <a:rPr b="0" lang="pl-PL" sz="1100" spc="-1" strike="noStrike">
                <a:solidFill>
                  <a:srgbClr val="00ff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3" descr="kr_04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pic>
        <p:nvPicPr>
          <p:cNvPr id="273" name="Rectangle 2" descr=""/>
          <p:cNvPicPr/>
          <p:nvPr/>
        </p:nvPicPr>
        <p:blipFill>
          <a:blip r:embed="rId2"/>
          <a:stretch/>
        </p:blipFill>
        <p:spPr>
          <a:xfrm>
            <a:off x="2700360" y="3645000"/>
            <a:ext cx="5773680" cy="230508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9"/>
          <p:cNvSpPr/>
          <p:nvPr/>
        </p:nvSpPr>
        <p:spPr>
          <a:xfrm>
            <a:off x="7880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CEA44-8172-4AF8-96B4-50EB700BFF76}" type="slidenum">
              <a:rPr b="0" lang="pl-P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1023b0"/>
                </a:solidFill>
                <a:latin typeface="Arial"/>
              </a:rPr>
              <a:t>Planowan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Tytuł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452160" y="1585800"/>
            <a:ext cx="8367480" cy="484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lanując system zarzadzania środowiskowego organizacja powinna rozważyć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kontekst organizacj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ymagania stron zainteresowany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zakres systemu Z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0000"/>
                </a:solidFill>
                <a:latin typeface="Arial"/>
              </a:rPr>
              <a:t>określić ryzyka i szanse związane z aspektami środowiskowymi, zobowiązaniami dot. zgodności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 ustalonym zakresie systemu zarządzania określić potencjalne sytuacje awaryjne, w tym te, które mogą mieć wpływ na środowisk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ymbol zastępczy numeru slajdu 3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8A285-759A-4945-A96B-57E35C71DA6A}" type="slidenum">
              <a:rPr b="0" lang="pl-PL" sz="1100" spc="-1" strike="noStrike">
                <a:solidFill>
                  <a:srgbClr val="00ff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Tytuł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456840" y="1568520"/>
            <a:ext cx="8434440" cy="45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y planowaniu systemu zarządzania środowiskiem, organizacja powinna uwzględnić </a:t>
            </a:r>
            <a:r>
              <a:rPr b="0" lang="pl-PL" sz="2400" spc="-1" strike="noStrike">
                <a:solidFill>
                  <a:srgbClr val="ff0000"/>
                </a:solidFill>
                <a:latin typeface="Arial"/>
              </a:rPr>
              <a:t>kwestie wewnętrzne i zewnętrzne, wymaganiach dot. zainteresowanych stron oraz określić ryzyka i możliwości,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które powinna odnieść 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pewnienia, że system zarządzania środowiskiem może osiągnąć zamierzone wynik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większenia pożądanych skutków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pobiegania lub zmniejszenia, niepożądanych skutków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siągania ciągłego doskonalen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l-PL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Aspekt środowiskowy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– element działania organizacji lub jej wyrobów lub usług, który ma lub może mieć wpływ na środowiskio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 u="sng">
                <a:solidFill>
                  <a:srgbClr val="000000"/>
                </a:solidFill>
                <a:uFillTx/>
                <a:latin typeface="Arial"/>
              </a:rPr>
              <a:t>Znaczący aspekt to ten, który może mieć znaczący wpływ na środowisk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ymbol zastępczy numeru slajdu 5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A12E8-05F4-4A60-B246-F0BAAC0D058E}" type="slidenum">
              <a:rPr b="0" lang="pl-PL" sz="1100" spc="-1" strike="noStrike">
                <a:solidFill>
                  <a:srgbClr val="00ff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Rectangle 2" descr=""/>
          <p:cNvPicPr/>
          <p:nvPr/>
        </p:nvPicPr>
        <p:blipFill>
          <a:blip r:embed="rId1"/>
          <a:stretch/>
        </p:blipFill>
        <p:spPr>
          <a:xfrm>
            <a:off x="1116000" y="334800"/>
            <a:ext cx="7338960" cy="93348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 txBox="1"/>
          <p:nvPr/>
        </p:nvSpPr>
        <p:spPr>
          <a:xfrm>
            <a:off x="394920" y="1196640"/>
            <a:ext cx="7921800" cy="532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rganizacja powinna </a:t>
            </a:r>
            <a:r>
              <a:rPr b="0" lang="pl-PL" sz="2400" spc="-1" strike="noStrike">
                <a:solidFill>
                  <a:srgbClr val="ff0000"/>
                </a:solidFill>
                <a:latin typeface="Arial"/>
              </a:rPr>
              <a:t>określić aspekty środowiskowe jej działań, wyrobów i usług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, które może nadzorować i na które może mieć wpływ, oraz ich związane oddziaływania na środowisko, z uwzględnieniem perspektywy cyklu życia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dczas określania aspektów środowiskowych, organizacja powinna brać pod uwagę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miany, w tym planowane lub nowe projekty oraz nowe lub zmodyfikowane działania, wyroby i usługi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arunki nietypowe i racjonalnie przewidywane sytuacje awaryj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rganizacja powinna określić te aspekty, które mają lub mogą mieć istotny wpływ na środowisko, tj. </a:t>
            </a:r>
            <a:r>
              <a:rPr b="0" lang="pl-PL" sz="2400" spc="-1" strike="noStrike">
                <a:solidFill>
                  <a:srgbClr val="ff0000"/>
                </a:solidFill>
                <a:latin typeface="Arial"/>
              </a:rPr>
              <a:t>istotne aspekty środowiskow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, poprzez stosowanie ustanowionych kryterió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ymbol zastępczy numeru slajdu 5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1DED9-CD8A-454B-A50A-7D89441F976F}" type="slidenum">
              <a:rPr b="0" lang="pl-PL" sz="1100" spc="-1" strike="noStrike">
                <a:solidFill>
                  <a:srgbClr val="00ff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Tytuł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 txBox="1"/>
          <p:nvPr/>
        </p:nvSpPr>
        <p:spPr>
          <a:xfrm>
            <a:off x="456840" y="1609200"/>
            <a:ext cx="800244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rganizacja powinna utrzymywać </a:t>
            </a:r>
            <a:r>
              <a:rPr b="0" lang="pl-PL" sz="2600" spc="-1" strike="noStrike">
                <a:solidFill>
                  <a:srgbClr val="ff0000"/>
                </a:solidFill>
                <a:latin typeface="Arial"/>
              </a:rPr>
              <a:t>udokumentowane informacje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dotycząc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aspektów środowiskowych i związanych z nimi wpływów na środowisk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kryteriów użytych do określenia znaczących aspektów środowiskowy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znaczących aspektów środowiskowy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Znaczące aspekty mogą skutkować zaistnieniem ryzyk i szans związanych z wpływami na środowisko, zarówno niekorzystnymi jak korzystnymi…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ymbol zastępczy numeru slajdu 3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CAACD-4DFB-454E-BABE-6575F6305420}" type="slidenum">
              <a:rPr b="0" lang="pl-PL" sz="1100" spc="-1" strike="noStrike">
                <a:solidFill>
                  <a:srgbClr val="00ff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Tytuł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457200" y="1609200"/>
            <a:ext cx="778680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kreślając aspekty środowiskowe, organizacja może wziąć pod uwagę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misje do powietrz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anieczyszczenia wprowadzane do wó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anieczyszczenia wprowadzane do ziem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użycie surowców i zasobów naturalnych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użycie energii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mitowaną energię, np. ciepło, promieniowanie, drgania (hałas) i światło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ytwarzanie odpadów i/lub produktów ubocznyc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ajęcie przestrzen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ymbol zastępczy numeru slajdu 3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CCA75-E0E2-4A8E-9B29-41F91FE96117}" type="slidenum">
              <a:rPr b="0" lang="pl-PL" sz="1100" spc="-1" strike="noStrike">
                <a:solidFill>
                  <a:srgbClr val="00ff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Tytuł 1" descr=""/>
          <p:cNvPicPr/>
          <p:nvPr/>
        </p:nvPicPr>
        <p:blipFill>
          <a:blip r:embed="rId1"/>
          <a:stretch/>
        </p:blipFill>
        <p:spPr>
          <a:xfrm>
            <a:off x="176040" y="324000"/>
            <a:ext cx="8718840" cy="113976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 txBox="1"/>
          <p:nvPr/>
        </p:nvSpPr>
        <p:spPr>
          <a:xfrm>
            <a:off x="178920" y="1609200"/>
            <a:ext cx="79930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rganizacja powinn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kreślić zobowiązania dot. zgodności związane z jej aspektami środowiskowymi i mieć do nich dostę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kreślić jak te zobowiązania stosują się do organizac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względnić te zobowiązania dot. zgodności przy ustanawianiu, wdrażaniu, utrzymywaniu i doskonaleniu systemu Z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rganizacja powinna utrzymywać </a:t>
            </a:r>
            <a:r>
              <a:rPr b="0" lang="pl-PL" sz="2400" spc="-1" strike="noStrike">
                <a:solidFill>
                  <a:srgbClr val="ff0000"/>
                </a:solidFill>
                <a:latin typeface="Arial"/>
              </a:rPr>
              <a:t>udokumentowane informacje dot. zobowiązań dot. zgodnoś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ymbol zastępczy numeru slajdu 3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23A8A-B2D0-46A4-AFFE-94A9CFC6824C}" type="slidenum">
              <a:rPr b="0" lang="pl-PL" sz="1100" spc="-1" strike="noStrike">
                <a:solidFill>
                  <a:srgbClr val="00ff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ytuł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 txBox="1"/>
          <p:nvPr/>
        </p:nvSpPr>
        <p:spPr>
          <a:xfrm>
            <a:off x="456840" y="1609200"/>
            <a:ext cx="814716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601"/>
              </a:spcBef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bowiązujące wymagania prawne związane z aspektami środowiskowymi organizacji mogą obejmować, jeśli ma to zastosowani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ff00"/>
              </a:buClr>
              <a:buSzPct val="73000"/>
              <a:buFont typeface="Arial"/>
              <a:buAutoNum type="alphaLcParenR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ymagania organów rządowych lub innych właściwych organów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ff00"/>
              </a:buClr>
              <a:buSzPct val="73000"/>
              <a:buFont typeface="Arial"/>
              <a:buAutoNum type="alphaLcParenR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zepisy ustawowe i wykonawcze przyjmowane na poziomie międzynarodowym, krajowym i lokalny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ff00"/>
              </a:buClr>
              <a:buSzPct val="73000"/>
              <a:buFont typeface="Arial"/>
              <a:buAutoNum type="alphaLcParenR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ymagania określone w pozwoleniach, licencjach lub innych formach zezwoleń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ff00"/>
              </a:buClr>
              <a:buSzPct val="73000"/>
              <a:buFont typeface="Arial"/>
              <a:buAutoNum type="alphaLcParenR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kazy, zasady lub wytyczne wydane przez organy administracj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ff00"/>
              </a:buClr>
              <a:buSzPct val="73000"/>
              <a:buFont typeface="Arial"/>
              <a:buAutoNum type="alphaLcParenR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yroki sądów (w tym sądów administracyjny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ymbol zastępczy numeru slajdu 3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7CE58-1772-4B67-9FE5-504F30AE5B44}" type="slidenum">
              <a:rPr b="0" lang="pl-PL" sz="1100" spc="-1" strike="noStrike">
                <a:solidFill>
                  <a:srgbClr val="00ff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ytuł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 txBox="1"/>
          <p:nvPr/>
        </p:nvSpPr>
        <p:spPr>
          <a:xfrm>
            <a:off x="250920" y="1463760"/>
            <a:ext cx="8424720" cy="49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obowiązania dotyczące zgodności mogą także obejmować wymagania stron zainteresowanych dot. aspektów środowiskowych organizacji, które powinna lub chce przyjąć. Mogą one obejmować, jeśli ma to zastosowani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rozumienia z grupami społecznymi lub organizacjami pozarządowym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rozumienia z władzami publicznymi lub klientam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acyjne;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obrowolne zasady lub kodeksy postępowania;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obrowolne systemy etykietowania lub zobowiązania środowiskow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bowiązki wynikające z uzgodnień kontraktowych z organizacj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łaściwe normy zakładowe lub branżow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ymbol zastępczy numeru slajdu 3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76E07-FE90-4B64-9760-4EC327989530}" type="slidenum">
              <a:rPr b="0" lang="pl-PL" sz="1100" spc="-1" strike="noStrike">
                <a:solidFill>
                  <a:srgbClr val="00ff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Rectangle 2" descr=""/>
          <p:cNvPicPr/>
          <p:nvPr/>
        </p:nvPicPr>
        <p:blipFill>
          <a:blip r:embed="rId1"/>
          <a:stretch/>
        </p:blipFill>
        <p:spPr>
          <a:xfrm>
            <a:off x="1450800" y="841320"/>
            <a:ext cx="7388280" cy="113976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Systemy zarządzania środowiskowego. Wymagania i wytyczne do stosowan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ymbol zastępczy numeru slajdu 5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186D2-3B20-4FDD-9A65-793BA72E2E2C}" type="slidenum">
              <a:rPr b="0" lang="pl-PL" sz="1100" spc="-1" strike="noStrike">
                <a:solidFill>
                  <a:srgbClr val="00ff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Tytuł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80316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250920" y="1125360"/>
            <a:ext cx="813744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acja powinna zaplanować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ziałania odnoszące się do jej: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znaczących aspektów środowiskowych; </a:t>
            </a:r>
            <a:endParaRPr b="0" lang="en-US" sz="2000" spc="-1" strike="noStrike">
              <a:solidFill>
                <a:srgbClr val="6c6c6c"/>
              </a:solidFill>
              <a:latin typeface="Arial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zobowiązań dotyczących zgodności;</a:t>
            </a:r>
            <a:endParaRPr b="0" lang="en-US" sz="2000" spc="-1" strike="noStrike">
              <a:solidFill>
                <a:srgbClr val="6c6c6c"/>
              </a:solidFill>
              <a:latin typeface="Arial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zidentyfikowanych ryzyk i szans; </a:t>
            </a:r>
            <a:endParaRPr b="0" lang="en-US" sz="2000" spc="-1" strike="noStrike">
              <a:solidFill>
                <a:srgbClr val="6c6c6c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posób: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zintegrowania działań  i wdrożenia ich do procesów systemu zarządzania środowiskowego lub innych procesów biznesowych; </a:t>
            </a:r>
            <a:endParaRPr b="0" lang="en-US" sz="2000" spc="-1" strike="noStrike">
              <a:solidFill>
                <a:srgbClr val="6c6c6c"/>
              </a:solidFill>
              <a:latin typeface="Arial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oceny skuteczności tych działań.</a:t>
            </a:r>
            <a:endParaRPr b="0" lang="en-US" sz="2000" spc="-1" strike="noStrike">
              <a:solidFill>
                <a:srgbClr val="6c6c6c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lanując te działania, organizacja powinna rozważyć swoje opcje technologiczne oraz wymagania finansowe, operacyjne i biznesowe</a:t>
            </a:r>
            <a:r>
              <a:rPr b="0" lang="pl-PL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ymbol zastępczy numeru slajdu 3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ED5E-B457-45D1-BD19-DE201E8C49D5}" type="slidenum">
              <a:rPr b="0" lang="pl-PL" sz="1100" spc="-1" strike="noStrike">
                <a:solidFill>
                  <a:srgbClr val="00ff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l-PL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bf00"/>
                </a:solidFill>
                <a:latin typeface="Arial"/>
              </a:rPr>
              <a:t>Cel środowiskowy</a:t>
            </a:r>
            <a:r>
              <a:rPr b="0" lang="pl-PL" sz="3200" spc="-1" strike="noStrike">
                <a:solidFill>
                  <a:srgbClr val="00bf00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– ogólny cel środowiskowy, spójny z polityką środowiskową, który organizacja ustala sobie do osiągnię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bf00"/>
                </a:solidFill>
                <a:latin typeface="Arial"/>
              </a:rPr>
              <a:t>Zadanie środowiskowe</a:t>
            </a:r>
            <a:r>
              <a:rPr b="0" lang="pl-PL" sz="3200" spc="-1" strike="noStrike">
                <a:solidFill>
                  <a:srgbClr val="00bf00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– szczegółowe wymaganie dotyczące efektów działalności, mające zastosowanie do organizacji lub jej części, wynikające z celów środowiskowych, które należy określić oraz zrealizować, aby osiągnąć te ce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ymbol zastępczy numeru slajdu 5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107BF-CA28-464A-86CA-0739CE4E1E4A}" type="slidenum">
              <a:rPr b="0" lang="pl-PL" sz="1100" spc="-1" strike="noStrike">
                <a:solidFill>
                  <a:srgbClr val="00ff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Rectangle 2" descr=""/>
          <p:cNvPicPr/>
          <p:nvPr/>
        </p:nvPicPr>
        <p:blipFill>
          <a:blip r:embed="rId1"/>
          <a:stretch/>
        </p:blipFill>
        <p:spPr>
          <a:xfrm>
            <a:off x="324000" y="334800"/>
            <a:ext cx="8491320" cy="86076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 txBox="1"/>
          <p:nvPr/>
        </p:nvSpPr>
        <p:spPr>
          <a:xfrm>
            <a:off x="323640" y="1197000"/>
            <a:ext cx="8458200" cy="534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rganizacja powinna ustanowić i utrzymywać cele i środowiskowe </a:t>
            </a:r>
            <a:r>
              <a:rPr b="0" lang="pl-PL" sz="2600" spc="-1" strike="noStrike">
                <a:solidFill>
                  <a:srgbClr val="ff0000"/>
                </a:solidFill>
                <a:latin typeface="Arial"/>
              </a:rPr>
              <a:t>w postaci udokumentowanych informacji 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dla odpowiednich funkcji i szczebli, uwzględniając znaczące aspekty środowiskowe organizacji i związane z nimi zobowiązania dot. zgodności oraz biorąc pod uwagę ryzyka i szans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ele środowiskowe powinny być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spójne z polityką środowiskową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ierzalne (jeśli jest to wykonaln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onitorow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zakomunikow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aktualizowane, jeśli jest to odpowiedni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ymbol zastępczy numeru slajdu 5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E89E0-0255-4EBC-9B81-6A5813970160}" type="slidenum">
              <a:rPr b="0" lang="pl-PL" sz="1100" spc="-1" strike="noStrike">
                <a:solidFill>
                  <a:srgbClr val="00ff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Tytuł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8217000" cy="117612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zy planowaniu celów dotyczące środowiska, organizacja powinna określić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 należy zrobić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jakie zasoby będą konieczne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kto będzie odpowiedzialny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kiedy działania zostaną zakończone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 jaki sposób będą oceniane wynik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ależy rozważyć, w jaki sposób działania prowadzące do osiągania celów środowiskowych mogą być zintegrowane z procesami biznesowymi organizac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1023b0"/>
                </a:solidFill>
                <a:latin typeface="Arial"/>
              </a:rPr>
              <a:t>Wspar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Tytuł 1" descr=""/>
          <p:cNvPicPr/>
          <p:nvPr/>
        </p:nvPicPr>
        <p:blipFill>
          <a:blip r:embed="rId1"/>
          <a:stretch/>
        </p:blipFill>
        <p:spPr>
          <a:xfrm>
            <a:off x="457200" y="189000"/>
            <a:ext cx="8229600" cy="57312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 txBox="1"/>
          <p:nvPr/>
        </p:nvSpPr>
        <p:spPr>
          <a:xfrm>
            <a:off x="108000" y="764640"/>
            <a:ext cx="9036000" cy="58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Arial"/>
                <a:ea typeface="Arial"/>
              </a:rPr>
              <a:t>Organizacja powinna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Arial"/>
                <a:ea typeface="Arial"/>
              </a:rPr>
              <a:t>określić niezbędne kompetencje osób wykonujących pod jej nadzorem pracę, mające wpływ na jej środowiskowe efekty działalności oraz jej zdolność do spełnienia zobowiązań dot. zgodności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Arial"/>
                <a:ea typeface="Arial"/>
              </a:rPr>
              <a:t>zapewniać, aby te osoby były kompetentne, dzięki odpowiedniemu wykształcenia, szkoleniu lub doświadczeniu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ff0000"/>
                </a:solidFill>
                <a:latin typeface="Arial"/>
                <a:ea typeface="Arial"/>
              </a:rPr>
              <a:t>Określić potrzeby szkoleniowe związane z jej aspektami środowiskowymi i systemem ZŚ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Arial"/>
                <a:ea typeface="Arial"/>
              </a:rPr>
              <a:t>tam, gdzie to ma zastosowanie podjąć działania, w celu uzyskania niezbędnych kompetencji i ocenić skuteczność podjętych działań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Arial"/>
                <a:ea typeface="Arial"/>
              </a:rPr>
              <a:t>Organizacja powinna przechowywać odpowiednie </a:t>
            </a:r>
            <a:r>
              <a:rPr b="0" lang="pl-PL" sz="2500" spc="-1" strike="noStrike">
                <a:solidFill>
                  <a:srgbClr val="ff0000"/>
                </a:solidFill>
                <a:latin typeface="Arial"/>
                <a:ea typeface="Arial"/>
              </a:rPr>
              <a:t>udokumentowane informacje</a:t>
            </a:r>
            <a:r>
              <a:rPr b="0" lang="pl-PL" sz="2500" spc="-1" strike="noStrike">
                <a:solidFill>
                  <a:srgbClr val="000000"/>
                </a:solidFill>
                <a:latin typeface="Arial"/>
                <a:ea typeface="Arial"/>
              </a:rPr>
              <a:t>, jako dowód kompetencji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Tytuł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65700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 txBox="1"/>
          <p:nvPr/>
        </p:nvSpPr>
        <p:spPr>
          <a:xfrm>
            <a:off x="450720" y="980640"/>
            <a:ext cx="84362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Organizacja powinna zapewnić, aby osoby wykonujące pracę pod nadzorem organizacji powinny być świadom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polityki środowiskowej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znaczących aspektów środowiskowych i związanych z nimi rzeczywistych lub potencjalnych wpływów na środowisko związane z ich prac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ich wkładu w skuteczność systemu zarządzania środowiskowego, w tym korzyści z poprawy środowiskowych efektów działalności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konsekwencji niezgodności z wymaganiami systemu zarządzania środowiskowego, w tym niespełnienia zobowiązań dot. zgodnośc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Tytuł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 txBox="1"/>
          <p:nvPr/>
        </p:nvSpPr>
        <p:spPr>
          <a:xfrm>
            <a:off x="179280" y="1609200"/>
            <a:ext cx="8064720" cy="48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Organizacja powinna określić, wdrożyć i utrzymywać proces potrzebny do wewnętrznej i zewnętrznej komunikacji dla systemu zarządzania środowiskowego, w tym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co ma być komunikowane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kiedy to ma być komunikowane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z kim należy się komunikować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jak należy się komunikować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acja powinna,  jeśli jest to odpowiednie, przechowywać </a:t>
            </a:r>
            <a:r>
              <a:rPr b="0" lang="pl-PL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udokumentowane informacje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jako dowód prowadzenia komunikac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Tytuł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7612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56840" y="1609200"/>
            <a:ext cx="7643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W ramach komunikacji wewnętrznej o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ganizacja powinn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zekazywać między różnymi szczeblami i funkcjami wewnątrz organizacji,  jeśli jest to odpowiednie, informacje istotne dla systemu zarządzania środowiskowego w tym dotyczące zmian w systemie zarządzania środowiskowego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zapewnić, aby proces komunikacji pozwalał 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każdej osobie pracującej pod nadzorem organizacji uczestniczyć w ciągłym doskonaleni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300"/>
              </a:spcAft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W ramach komunikacji zewnętrznej o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ganizacja powinna: przekazywać na zewnątrz informacje dotyczące jej systemu zarządzania środowiskowego, jak ustanowiono w procesie (procesach) komunikacji i zgodnie z zobowiązaniami dotyczącymi zgodnośc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ymbol zastępczy numeru slajdu 3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FD1CA-D974-43E8-B880-3F18E57BF9B5}" type="slidenum">
              <a:rPr b="0" lang="pl-PL" sz="1100" spc="-1" strike="noStrike">
                <a:solidFill>
                  <a:srgbClr val="00ff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023b0"/>
                </a:solidFill>
                <a:latin typeface="Arial"/>
              </a:rPr>
              <a:t>Udokumentowane Informac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Rectangle 2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bf00"/>
                </a:solidFill>
                <a:latin typeface="Arial"/>
              </a:rPr>
              <a:t>Środowisko</a:t>
            </a: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– otoczenie, w którym działa organizacja, z uwzględnieniem powietrza, wody, ziemi, zasobów naturalnych, flory, fauny, ludzi i ich wzajemnych zależnośc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ymbol zastępczy numeru slajdu 5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AC5FC-CA6A-4848-A6FE-C090AB50B22A}" type="slidenum">
              <a:rPr b="0" lang="pl-PL" sz="1100" spc="-1" strike="noStrike">
                <a:solidFill>
                  <a:srgbClr val="00ff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Tytuł 1" descr=""/>
          <p:cNvPicPr/>
          <p:nvPr/>
        </p:nvPicPr>
        <p:blipFill>
          <a:blip r:embed="rId1"/>
          <a:stretch/>
        </p:blipFill>
        <p:spPr>
          <a:xfrm>
            <a:off x="609480" y="530280"/>
            <a:ext cx="6699240" cy="140184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394920" y="1557000"/>
            <a:ext cx="7705800" cy="44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cc"/>
                </a:solidFill>
                <a:latin typeface="Arial"/>
              </a:rPr>
              <a:t>Informacja, która powinna być nadzorowana i utrzymywana przez organizację oraz nośnik, na jakim jest zawa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(Aktualna definicja określająca dokument i zap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dokumentowana informacja może być w dowolnej formie i na dowolnym rodzaju nośnika i 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Arial"/>
              </a:rPr>
              <a:t>może pochodzić z dowolnego źródł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dokumentowane informacje mogą odnosić się d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ystemu zarządzania łącznie ze związanymi proces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formacji stworzonej pod kątem działalności organizacji (dokumentac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owodów osiągania wyników (zapis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ymbol zastępczy numeru slajdu 3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1572C-3A9F-45FC-9A27-D0BEBD25468F}" type="slidenum">
              <a:rPr b="0" lang="pl-PL" sz="1100" spc="-1" strike="noStrike">
                <a:solidFill>
                  <a:srgbClr val="00ff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ytuł 1" descr=""/>
          <p:cNvPicPr/>
          <p:nvPr/>
        </p:nvPicPr>
        <p:blipFill>
          <a:blip r:embed="rId1"/>
          <a:stretch/>
        </p:blipFill>
        <p:spPr>
          <a:xfrm>
            <a:off x="457200" y="517680"/>
            <a:ext cx="8229600" cy="7207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6840" y="1501920"/>
            <a:ext cx="8434440" cy="46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System zarządzania środowiskowego organizacji powinien zawierać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dokumentowane informacje wymagane postanowieniami niniejszej normy międzynarodowej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dokumentowane informacje określone przez organizację jako niezbędne, dla skuteczności systemu zarządzania środowiskie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WAGA Zakres udokumentowanej informacji w systemie zarządzania środowiskowego, może być różny dla różnych organizacj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ytuł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pracowując i aktualizując udokumentowane informacje organizacja powinna zapewnić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identyfikacje i opis (np. tytuł, datę, autora, lub numer referencyjny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format (np. język, wersję oprogramowania, grafikę) oraz nośnik (np. papier, wersja elektroniczna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zegląd oraz zatwierdzenie stosowności i adekwatnośc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ytuł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317520" y="1568520"/>
            <a:ext cx="8642160" cy="43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dokumentowane informacje wymagane przez system zarządzania środowiskowego i niniejszą normę międzynarodową, powinny być nadzorowane w celu zapewnieni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dostępności i przydatności do użytku, wtedy gdy jest to konieczne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dpowiedniego zabezpieczenia (np. przed utratą poufności, niewłaściwego użytkowania lub utracie integralności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ytuł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7200" y="1741320"/>
            <a:ext cx="8229600" cy="44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Dla nadzorowania udokumentowanych informacji, organizacja powinna podejmować w stosownych przypadkach następujące czynności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dystrybucję, dostęp, pobieranie i wykorzystywanie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zechowywanie i zabezpieczanie, w tym zachowania czytelności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kontrolę zmian (np. kontrolę wersji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zechowywanie i likwidację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ytuł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252000" y="1434600"/>
            <a:ext cx="8707320" cy="485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dokumentowane informacje pochodzące spoza organizacji, niezbędne do planowania i funkcjonowania systemu zarządzania środowiskowego, powinny być zidentyfikowane, odpowiednio oznaczone i nadzorowan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WAGA Dostęp może oznaczać decyzję, dotyczącą zezwolenia tylko na wgląd do udokumentowanych informacji lub zezwolenia i uprawnienia do wglądu oraz zmiany udokumentowanych informacj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Rectangle 2" descr=""/>
          <p:cNvPicPr/>
          <p:nvPr/>
        </p:nvPicPr>
        <p:blipFill>
          <a:blip r:embed="rId1"/>
          <a:stretch/>
        </p:blipFill>
        <p:spPr>
          <a:xfrm>
            <a:off x="1371600" y="231840"/>
            <a:ext cx="7772400" cy="83484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250920" y="1066320"/>
            <a:ext cx="8066160" cy="545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rganizacja powinna ustanowić, wdrożyć, nadzorować i utrzymywać procesy niezbędne do spełniania wymagań systemu zarządzania środowiskowego oraz do wdrożenia działań dot. celów i aspektów, poprzez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tanowienie kryteriów operacyjnych dla procesów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wdrażanie nadzorowania procesów, zgodnie z kryteriami operacyjnym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rganizacja powinna nadzorować zaplanowane zmiany i poddawać przeglądowi skutki wprowadzenia niezamierzonych zmian, podejmując niezbędne działania w celu łagodzenia niekorzystnych skutków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rganizacja powinna zapewnić, aby </a:t>
            </a:r>
            <a:r>
              <a:rPr b="0" lang="pl-PL" sz="2200" spc="-1" strike="noStrike">
                <a:solidFill>
                  <a:srgbClr val="ff0000"/>
                </a:solidFill>
                <a:latin typeface="Arial"/>
              </a:rPr>
              <a:t>procesy zlecane na zewnątrz były nadzorowane lub pozostawały pod jej wpływem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. Rodzaj i zakres nadzoru lub wpływu zastosowany do tego procesu powinien być zdefiniowany w ramach systemu zarządzania środowiskoweg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ymbol zastępczy numeru slajdu 5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F2E0A-0770-4A54-B90D-A4C339CF0150}" type="slidenum">
              <a:rPr b="0" lang="pl-PL" sz="1100" spc="-1" strike="noStrike">
                <a:solidFill>
                  <a:srgbClr val="00ff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Tytuł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94428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250560" y="1412640"/>
            <a:ext cx="777708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godnie z </a:t>
            </a:r>
            <a:r>
              <a:rPr b="0" lang="pl-PL" sz="2000" spc="-1" strike="noStrike">
                <a:solidFill>
                  <a:srgbClr val="ff0000"/>
                </a:solidFill>
                <a:latin typeface="Arial"/>
              </a:rPr>
              <a:t>perspektywą cyklu życia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rganizacja powin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stanowić odpowiednie środki nadzoru, w celu zapewnienia uwzględniania swoich wymagań środowiskowych w procesach projektowania i opracowywania produktu lub usługi, z uwzględnieniem każdego etapu cyklu życi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kreślić swoje wymagania środowiskowe dotyczące wytwarzania wyrobów i usłu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zekazywać istotne wymagania środowiskowe stronom zewnętrznym, w tym podwykonawco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ozważyć potrzebę przedstawienia informacji o potencjalnych znaczących wpływach na środowisko związane z transportem lub dostawą, użytkowaniem, przetwarzaniem po zakończeniu użytkowania i końcowym usunięciem jej wyrobów i usłu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rganizacja powinna utrzymywać </a:t>
            </a:r>
            <a:r>
              <a:rPr b="0" lang="pl-PL" sz="2000" spc="-1" strike="noStrike">
                <a:solidFill>
                  <a:srgbClr val="ff0000"/>
                </a:solidFill>
                <a:latin typeface="Arial"/>
              </a:rPr>
              <a:t>udokumentowane informacj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zakresie niezbędnym do upewnienia się że procesy zostały wykonane jak zaplanowa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ymbol zastępczy numeru slajdu 3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2B18F-1548-478A-986D-38CABA9C6D66}" type="slidenum">
              <a:rPr b="0" lang="pl-PL" sz="1100" spc="-1" strike="noStrike">
                <a:solidFill>
                  <a:srgbClr val="00ff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249120" y="262080"/>
            <a:ext cx="8534520" cy="89028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179280" y="1125360"/>
            <a:ext cx="8064720" cy="53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leży ustanowić, wdrożyć i utrzymywać procesy niezbędne do przygotowania i reagowania na potencjalne sytuacje awaryj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rganizacja powin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przygotować sposób reagowani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przez zaplanowanie działań zapobiegawczych lub łagodzących niekorzystne oddziaływania na środowisko przez sytuacje awaryjn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reagować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na rzeczywiste sytuacje awaryjn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dejmować działania w celu </a:t>
            </a: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zapobiegania lub łagodzenia skutków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ytuacji awaryjnych, odpowiednie do powagi danej sytuacji oraz potencjalnego oddziaływania na środowisk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kresowo </a:t>
            </a: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poddawać testom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lanowane działania związane z reagowaniem, jeśli jest to możliw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kresowo </a:t>
            </a: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poddawać przeglądowi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 rewidować proces(y) i zaplanowane działania związane z reagowaniem, w szczególności po wystąpieniu sytuacji awaryjnej lub po próbac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starczać odpowiednie informacje i zapewniać szkolenia związane z gotowością i reagowaniem na sytuacje awaryjne właściwym zainteresowanym stronom, w tym osobom wykonującym pracę pod nadzorem organizacj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rganizacja powinna utrzymywać </a:t>
            </a: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udokumentowaną informację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zakresie niezbędnym do upewnienia się, że procesy zostały przeprowadzone jak zaplanowano</a:t>
            </a:r>
            <a:r>
              <a:rPr b="0" lang="pl-PL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ymbol zastępczy numeru slajdu 5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1C798-C551-4E55-9C59-FBADB2CE9F9D}" type="slidenum">
              <a:rPr b="0" lang="pl-PL" sz="1100" spc="-1" strike="noStrike">
                <a:solidFill>
                  <a:srgbClr val="00ff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ytuł 1" descr=""/>
          <p:cNvPicPr/>
          <p:nvPr/>
        </p:nvPicPr>
        <p:blipFill>
          <a:blip r:embed="rId1"/>
          <a:stretch/>
        </p:blipFill>
        <p:spPr>
          <a:xfrm>
            <a:off x="109440" y="324000"/>
            <a:ext cx="8710560" cy="58392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107640" y="907920"/>
            <a:ext cx="8785080" cy="55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Zaleca się, aby planując proces(-y) gotowości i reagowania na sytuacje awaryjne, organizacja wzięła pod uwagę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ajbardziej odpowiednią/e metodę/y reagowania na sytuacje awaryjn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cesy komunikacji wewnętrznej i zewnętrznej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ziałanie/a niezbędne do zapobiegania wystąpieniu wpływów na środowisko lub do złagodzenia tych wpływó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posób (sposoby) reagowania oraz działanie (działania) o charakterze łagodzącym skutki, które należy podjąć w przypadku wystąpienia różnego typu sytuacji awaryjnyc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trzebę prowadzenia oceny przebiegu działań po wystąpieniu sytuacji awaryjnej w celu określenia i wdrożenia działań korygującyc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kresowe testowanie działań zaplanowanych na wypadek sytuacji awaryjnyc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zkolenia pracowników odpowiedzialnych za reagowanie na sytuacje awaryjn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ykaz osób i służb wraz z danymi kontaktowymi (np. straż pożarna, służby usuwające wycieki);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ogi ewakuacyjne i punkty zbiórki;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ożliwości pomocy wzajemnej ze strony organizacji z sąsiedztw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ymbol zastępczy numeru slajdu 3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F1792-AE5C-46F0-A955-4F79714C8F57}" type="slidenum">
              <a:rPr b="0" lang="pl-PL" sz="1100" spc="-1" strike="noStrike">
                <a:solidFill>
                  <a:srgbClr val="00ff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l-PL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6840" y="1609200"/>
            <a:ext cx="771516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Niniejsza norma międzynarodowa stosuje następujące formy słown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owinien</a:t>
            </a: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, „</a:t>
            </a: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należy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znacza wymaganie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zalec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ę”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znacza zalecenie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puszcza się</a:t>
            </a: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znacza 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dopuszczeni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może”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oznacza możliwość lub zdolność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Informacja oznaczona jako "</a:t>
            </a: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UWAGA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" ma na celu ułatwienie zrozumienia lub stosowania  norm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ymbol zastępczy numeru slajdu 3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CF4D0-9AF8-4414-B95D-D6ABC94EA2A8}" type="slidenum">
              <a:rPr b="0" lang="pl-PL" sz="1100" spc="-1" strike="noStrike">
                <a:solidFill>
                  <a:srgbClr val="00ff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1023b0"/>
                </a:solidFill>
                <a:latin typeface="Arial"/>
              </a:rPr>
              <a:t>Ocena efektów działalnośc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300" spc="-1" strike="noStrike">
                <a:solidFill>
                  <a:srgbClr val="000000"/>
                </a:solidFill>
                <a:latin typeface="Arial"/>
              </a:rPr>
              <a:t>Monitorowanie, pomiary, analiza i ocena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Tytuł 1" descr=""/>
          <p:cNvPicPr/>
          <p:nvPr/>
        </p:nvPicPr>
        <p:blipFill>
          <a:blip r:embed="rId1"/>
          <a:stretch/>
        </p:blipFill>
        <p:spPr>
          <a:xfrm>
            <a:off x="396720" y="60480"/>
            <a:ext cx="7236000" cy="113976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252000" y="1201320"/>
            <a:ext cx="8707320" cy="53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Organizacja powinna określić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spcBef>
                <a:spcPts val="275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co powinno być monitorowane i mierzone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spcBef>
                <a:spcPts val="275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metody monitorowania, pomiaru, analizy i oceny, aby zapewnić prawidłowe wyniki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spcBef>
                <a:spcPts val="275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Kryteria względem których organizacja będzie oceniać środowiskowe efekty swojej działalności oraz odpowiednie wskaźnik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spcBef>
                <a:spcPts val="275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kiedy należy przeprowadzić monitorowanie i pomiary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spcBef>
                <a:spcPts val="275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kiedy wyniki monitorowania i pomiarów powinny być analizowane i ocenian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Organizacja powinna zachować odpowiednie </a:t>
            </a:r>
            <a:r>
              <a:rPr b="0" lang="pl-PL" sz="2600" spc="-1" strike="noStrike" u="sng">
                <a:solidFill>
                  <a:srgbClr val="f50b6f"/>
                </a:solidFill>
                <a:uFillTx/>
                <a:latin typeface="Arial"/>
                <a:ea typeface="Arial"/>
              </a:rPr>
              <a:t>udokumentowane informacje 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jako dowód prowadzenia monitorowania, pomiarów, analizy i oceny wynikó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Tytuł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457200" y="1609200"/>
            <a:ext cx="829152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rganizacja powinna ustanowić, wdrożyć i utrzymywać procesy potrzebne do oceny spełnienia zobowiązań dot. zgodności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kreślić częstotliwość z jaką będzie ocenia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ceniać zgodność i w razie potrzeby podejmować działan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trzymywać znajomość i zrozumienie swojego stanu zgodnośc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rganizacja powinna przechowywać </a:t>
            </a:r>
            <a:r>
              <a:rPr b="0" lang="pl-PL" sz="2600" spc="-1" strike="noStrike">
                <a:solidFill>
                  <a:srgbClr val="ff0000"/>
                </a:solidFill>
                <a:latin typeface="Arial"/>
              </a:rPr>
              <a:t>udokumentowane informacje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jako dowód wyników oceny zgodnośc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ymbol zastępczy numeru slajdu 3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9A370-9166-4B14-8664-F025AB302A59}" type="slidenum">
              <a:rPr b="0" lang="pl-PL" sz="1100" spc="-1" strike="noStrike">
                <a:solidFill>
                  <a:srgbClr val="00ff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Tytuł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7612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Organizacja powinna przeprowadzać audity wewnętrzne w zaplanowanych odstępach czasu w celu określenia, czy system zarządzania środowiskoweg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jest zgodny z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6c6c6c"/>
                </a:solidFill>
                <a:latin typeface="Arial"/>
                <a:ea typeface="Arial"/>
              </a:rPr>
              <a:t>własnymi wymaganiami organizacji dla systemu zarządzania środowiskowego;</a:t>
            </a:r>
            <a:endParaRPr b="0" lang="en-US" sz="2400" spc="-1" strike="noStrike">
              <a:solidFill>
                <a:srgbClr val="6c6c6c"/>
              </a:solidFill>
              <a:latin typeface="Arial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6c6c6c"/>
                </a:solidFill>
                <a:latin typeface="Arial"/>
                <a:ea typeface="Arial"/>
              </a:rPr>
              <a:t>wymaganiami niniejszej normy międzynarodowej ,</a:t>
            </a:r>
            <a:endParaRPr b="0" lang="en-US" sz="2400" spc="-1" strike="noStrike">
              <a:solidFill>
                <a:srgbClr val="6c6c6c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jest skutecznie wdrożony i utrzymywan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Tytuł 1" descr=""/>
          <p:cNvPicPr/>
          <p:nvPr/>
        </p:nvPicPr>
        <p:blipFill>
          <a:blip r:embed="rId1"/>
          <a:stretch/>
        </p:blipFill>
        <p:spPr>
          <a:xfrm>
            <a:off x="457200" y="517680"/>
            <a:ext cx="8229600" cy="75060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 txBox="1"/>
          <p:nvPr/>
        </p:nvSpPr>
        <p:spPr>
          <a:xfrm>
            <a:off x="252360" y="1234800"/>
            <a:ext cx="8639280" cy="53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Organizacja powinn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ustanowić, wdrożyć i utrzymywać program audytów wewnętrznych, w tym określić częstość, metody, odpowiedzialności, wymagania dot. planowania i raportowania jej audytów wewnętrznyc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określić kryteria i zakres dla każdego auditu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wybierać auditorów i prowadzić audity tak aby zapewnić obiektywność i bezstronność procesu auditu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zapewnić, że wyniki auditów są przekazywane do właściwego kierownictw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Organizacja powinna przechowywać </a:t>
            </a:r>
            <a:r>
              <a:rPr b="0" lang="pl-PL" sz="2400" spc="-1" strike="noStrike">
                <a:solidFill>
                  <a:srgbClr val="ff0000"/>
                </a:solidFill>
                <a:latin typeface="Arial"/>
                <a:ea typeface="Arial"/>
              </a:rPr>
              <a:t>udokumentowane informacje</a:t>
            </a:r>
            <a:r>
              <a:rPr b="0" lang="pl-PL" sz="2400" spc="-1" strike="noStrike" u="sng">
                <a:solidFill>
                  <a:srgbClr val="f50b6f"/>
                </a:solidFill>
                <a:uFillTx/>
                <a:latin typeface="Arial"/>
                <a:ea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jako dowód realizacji programu auditów i wyników auditó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Tytuł 1" descr=""/>
          <p:cNvPicPr/>
          <p:nvPr/>
        </p:nvPicPr>
        <p:blipFill>
          <a:blip r:embed="rId1"/>
          <a:stretch/>
        </p:blipFill>
        <p:spPr>
          <a:xfrm>
            <a:off x="523800" y="189000"/>
            <a:ext cx="8229600" cy="68256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 txBox="1"/>
          <p:nvPr/>
        </p:nvSpPr>
        <p:spPr>
          <a:xfrm>
            <a:off x="250560" y="836280"/>
            <a:ext cx="87850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Arial"/>
                <a:ea typeface="Arial"/>
              </a:rPr>
              <a:t>Najwyższe kierownictwo powinno przeprowadzać przegląd systemu zarządzania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środowiskiem </a:t>
            </a:r>
            <a:r>
              <a:rPr b="0" lang="pl-PL" sz="2500" spc="-1" strike="noStrike">
                <a:solidFill>
                  <a:srgbClr val="000000"/>
                </a:solidFill>
                <a:latin typeface="Arial"/>
                <a:ea typeface="Arial"/>
              </a:rPr>
              <a:t>organizacji w zaplanowanych odstępach czasu, w celu zapewnienia jego stałej przydatności, adekwatności i skuteczności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Arial"/>
                <a:ea typeface="Arial"/>
              </a:rPr>
              <a:t>Przegląd zarządzania powinien obejmować rozważeni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Arial"/>
                <a:ea typeface="Arial"/>
              </a:rPr>
              <a:t>statusu działań podjętych w następstwie wcześniejszych przeglądów zarządzan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Arial"/>
                <a:ea typeface="Arial"/>
              </a:rPr>
              <a:t>zmian dotyczących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Arial"/>
                <a:ea typeface="Arial"/>
              </a:rPr>
              <a:t>czynników zewnętrznych i wewnętrznych, istotnych dla systemu zarządzania środowiskowego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Arial"/>
                <a:ea typeface="Arial"/>
              </a:rPr>
              <a:t>potrzeb i oczekiwań stron zainteresowanych, w tym zobowiązań dot. zgodnośc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Arial"/>
                <a:ea typeface="Arial"/>
              </a:rPr>
              <a:t>jej znaczących aspektów środowiskowyc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Arial"/>
                <a:ea typeface="Arial"/>
              </a:rPr>
              <a:t>ryzyk i szans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Arial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Rectangle 2" descr=""/>
          <p:cNvPicPr/>
          <p:nvPr/>
        </p:nvPicPr>
        <p:blipFill>
          <a:blip r:embed="rId1"/>
          <a:stretch/>
        </p:blipFill>
        <p:spPr>
          <a:xfrm>
            <a:off x="469800" y="304920"/>
            <a:ext cx="7845480" cy="114588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 txBox="1"/>
          <p:nvPr/>
        </p:nvSpPr>
        <p:spPr>
          <a:xfrm>
            <a:off x="324000" y="1447560"/>
            <a:ext cx="7920000" cy="522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opnia w jakim osiągnięto cele środowiskow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formacji o efektach działania środowiskowego organizacji, z uwzględnieniem trendów dotyczących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zgodności i działań korygujących;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yników monitorowania i pomiaru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ełniania zobowiązań dotyczących zgodnośc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dekwatnośc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asob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stotnych informacji przekazywanych przez strony zainteresowane, w tym skar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żliwości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iągłeg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skonalen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ymbol zastępczy numeru slajdu 5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97AA7-F5A2-486E-A891-8076B924B03A}" type="slidenum">
              <a:rPr b="0" lang="pl-PL" sz="1100" spc="-1" strike="noStrike">
                <a:solidFill>
                  <a:srgbClr val="00ff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Tytuł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 txBox="1"/>
          <p:nvPr/>
        </p:nvSpPr>
        <p:spPr>
          <a:xfrm>
            <a:off x="457200" y="1609200"/>
            <a:ext cx="850752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ane wyjściowe z przeglądu powinny zawierać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nioski dot. stałej przydatności, adekwatności i skuteczności systemu Z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ecyzje związane z możliwościami ciągłego doskonale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ecyzje związane z wszelkimi potrzebami zmian w systemie ZŚ, w tym dot. zasobó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ziałania podejmowane w razie potrzeby, jeśli cele środowiskowe nie zostały osiągnię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ożliwości poprawy integracji systemu ZŚ z innymi procesami biznesowymi, jeśli to niezbęd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rganizacja powinna przechowywać </a:t>
            </a:r>
            <a:r>
              <a:rPr b="0" lang="pl-PL" sz="2400" spc="-1" strike="noStrike">
                <a:solidFill>
                  <a:srgbClr val="ff0000"/>
                </a:solidFill>
                <a:latin typeface="Arial"/>
              </a:rPr>
              <a:t>udokumentowane informacje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jako dowód wyników przeglądu zarządz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ymbol zastępczy numeru slajdu 3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2E2E4-37B0-4CA9-AF7D-F134474B4417}" type="slidenum">
              <a:rPr b="0" lang="pl-PL" sz="1100" spc="-1" strike="noStrike">
                <a:solidFill>
                  <a:srgbClr val="00ff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Tytuł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7612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 txBox="1"/>
          <p:nvPr/>
        </p:nvSpPr>
        <p:spPr>
          <a:xfrm>
            <a:off x="317160" y="1633680"/>
            <a:ext cx="8574120" cy="49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W sytuacji wystąpienia niezgodności, organizacja powinn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reagować na niezgodności i odpowiednio: podjąć działania, mające na celu nadzorowanie i skorygowan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zająć się następstwami, w tym łagodzeniem niekorzystnych wpływów na środowis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ocenić potrzebę podjęcia działań w celu wyeliminowania przyczyn niezgodności, tak aby się one nie powtórzyły lub wystąpiły w innym miejscu, przez ich przegląd, ustalanie przyczyny oraz ustalenie, czy istnieją podobne niezgodności, lub mogą potencjalnie wystąpi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Wdrożyć wszelkie niezbędne działania;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9280" y="1690200"/>
            <a:ext cx="723924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bf00"/>
                </a:solidFill>
                <a:latin typeface="Arial"/>
              </a:rPr>
              <a:t>system zarządzania środowiskow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zęść systemu zarządzania wykorzystywana do zarządzania aspektami środowiskowymi spełniania zobowiązań dotyczących zgodności oraz odniesienia się do ryzyk i sz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ymbol zastępczy numeru slajdu 3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F2407-5EB9-4B51-89E2-EA8F7E6F4582}" type="slidenum">
              <a:rPr b="0" lang="pl-PL" sz="1100" spc="-1" strike="noStrike">
                <a:solidFill>
                  <a:srgbClr val="00ff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Tytuł 1" descr=""/>
          <p:cNvPicPr/>
          <p:nvPr/>
        </p:nvPicPr>
        <p:blipFill>
          <a:blip r:embed="rId1"/>
          <a:stretch/>
        </p:blipFill>
        <p:spPr>
          <a:xfrm>
            <a:off x="457200" y="517680"/>
            <a:ext cx="8229600" cy="82368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 txBox="1"/>
          <p:nvPr/>
        </p:nvSpPr>
        <p:spPr>
          <a:xfrm>
            <a:off x="317520" y="1303200"/>
            <a:ext cx="8642160" cy="50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dokonać przeglądu skuteczności wszelkich podjętych działań korygującyc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wprowadzić zmiany w systemie zarządzania środowiskowego, jeśli jest to koniecz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Działania korygujące powinny być dostosowane do skutków występujących niezgodności, w tym ich wpływów na środowisk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Organizacja powinna zachować </a:t>
            </a:r>
            <a:r>
              <a:rPr b="0" lang="pl-PL" sz="2400" spc="-1" strike="noStrike">
                <a:solidFill>
                  <a:srgbClr val="f50b6f"/>
                </a:solidFill>
                <a:latin typeface="Arial"/>
                <a:ea typeface="Arial"/>
              </a:rPr>
              <a:t>udokumentowaną informacj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jako dowó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rodzaju niezgodności oraz wszelkich podjętych działa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wyników wszelkich działań korygujący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Tytuł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7612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Organizacja powinna ciągle doskonalić przydatność, adekwatność lub skuteczności systemu zarządzania środowiskowego, aby poprawić środowiskowe efekty działalnośc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Symbol zastępczy daty 3"/>
          <p:cNvSpPr/>
          <p:nvPr/>
        </p:nvSpPr>
        <p:spPr>
          <a:xfrm>
            <a:off x="457200" y="6029280"/>
            <a:ext cx="2133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B4033-5BD4-4274-B720-E6598620F557}" type="datetime">
              <a:rPr b="0" lang="pl-PL" sz="1200" spc="-1" strike="noStrike">
                <a:solidFill>
                  <a:srgbClr val="00ff00"/>
                </a:solidFill>
                <a:latin typeface="Arial"/>
              </a:rPr>
              <a:t>30.07.26</a:t>
            </a:fld>
            <a:r>
              <a:rPr b="0" lang="pl-PL" sz="1200" spc="-1" strike="noStrike">
                <a:solidFill>
                  <a:srgbClr val="00ff00"/>
                </a:solidFill>
                <a:latin typeface="Arial"/>
              </a:rPr>
              <a:t> </a:t>
            </a:r>
            <a:fld id="{CD22664F-5265-42D3-B2C1-345338EA63FF}" type="datetime12">
              <a:rPr b="0" lang="pl-PL" sz="1200" spc="-1" strike="noStrike">
                <a:solidFill>
                  <a:srgbClr val="00ff00"/>
                </a:solidFill>
                <a:latin typeface="Arial"/>
              </a:rPr>
              <a:t>02:09 AM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Symbol zastępczy numeru slajdu 5"/>
          <p:cNvSpPr/>
          <p:nvPr/>
        </p:nvSpPr>
        <p:spPr>
          <a:xfrm>
            <a:off x="6553080" y="6029280"/>
            <a:ext cx="2133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81C94-6384-461B-AFA0-6E1CD3E5F99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457200" y="703080"/>
            <a:ext cx="82296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WordArt 3"/>
          <p:cNvSpPr txBox="1"/>
          <p:nvPr/>
        </p:nvSpPr>
        <p:spPr>
          <a:xfrm>
            <a:off x="539640" y="1900080"/>
            <a:ext cx="777744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2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Dziękuję za uwagę</a:t>
            </a:r>
            <a:endParaRPr b="1" lang="en-US" sz="332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Tytuł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94428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 txBox="1"/>
          <p:nvPr/>
        </p:nvSpPr>
        <p:spPr>
          <a:xfrm>
            <a:off x="107640" y="1268280"/>
            <a:ext cx="8496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tencją normy jest dostarczenie organizacjom narzędzia ułatwiającego ochronę środowiska i reagowanie na zmiany warunków środowiskowy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 zgodzie z potrzebami społecznymi i gospodarczy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Stworzenie możliwości wniesienia wkładu w zrównoważony rozwój poprzez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chronę środowiska przez zapobieganie lub łagodzenie niekorzystnych wpływów na środowisko,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łagodzenie niekorzystnego wpływu warunków środowiskowych na organizację;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spieranie organizacji w spełnianiu zobowiązań dotyczących zgodności;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prawianie efektów działalności środowiskowej;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adzorowanie lub wpływanie na to, jak wyroby i usługi organizacji są projektowane, wykonywane, rozprowadzane, konsumowane i unieszkodliwiane przez zastosowanie perspektywy cyklu życia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orzyści finansowych i operacyjnych, które mogą wynikać z zastosowania korzystnych dla środowiska rozwiązań wzmacniających pozycję rynkową organizacj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zekazywanie informacji środowiskowych stronom zainteresowany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ymbol zastępczy numeru slajdu 3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67059-86AB-4E6E-A43E-CA687BD0BE49}" type="slidenum">
              <a:rPr b="0" lang="pl-PL" sz="1100" spc="-1" strike="noStrike">
                <a:solidFill>
                  <a:srgbClr val="00ff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rostokąt zaokrąglony 9"/>
          <p:cNvSpPr/>
          <p:nvPr/>
        </p:nvSpPr>
        <p:spPr>
          <a:xfrm>
            <a:off x="1781280" y="1766880"/>
            <a:ext cx="5049720" cy="4254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Elipsa 8"/>
          <p:cNvSpPr/>
          <p:nvPr/>
        </p:nvSpPr>
        <p:spPr>
          <a:xfrm>
            <a:off x="1979640" y="1900080"/>
            <a:ext cx="4586400" cy="3856320"/>
          </a:xfrm>
          <a:prstGeom prst="ellipse">
            <a:avLst/>
          </a:prstGeom>
          <a:solidFill>
            <a:srgbClr val="ffffff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Tytuł 1" descr=""/>
          <p:cNvPicPr/>
          <p:nvPr/>
        </p:nvPicPr>
        <p:blipFill>
          <a:blip r:embed="rId1"/>
          <a:stretch/>
        </p:blipFill>
        <p:spPr>
          <a:xfrm>
            <a:off x="249120" y="517680"/>
            <a:ext cx="8712360" cy="72072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450720" y="1701360"/>
            <a:ext cx="8229600" cy="4181400"/>
          </a:xfrm>
          <a:prstGeom prst="rect">
            <a:avLst/>
          </a:prstGeom>
          <a:ln w="0">
            <a:noFill/>
          </a:ln>
        </p:spPr>
      </p:pic>
      <p:sp>
        <p:nvSpPr>
          <p:cNvPr id="295" name="Elipsa 3"/>
          <p:cNvSpPr/>
          <p:nvPr/>
        </p:nvSpPr>
        <p:spPr>
          <a:xfrm>
            <a:off x="3002040" y="2598840"/>
            <a:ext cx="2655720" cy="2342880"/>
          </a:xfrm>
          <a:prstGeom prst="ellipse">
            <a:avLst/>
          </a:prstGeom>
          <a:solidFill>
            <a:srgbClr val="dec2e4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Arial"/>
              </a:rPr>
              <a:t>Przywództw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Elipsa 4"/>
          <p:cNvSpPr/>
          <p:nvPr/>
        </p:nvSpPr>
        <p:spPr>
          <a:xfrm>
            <a:off x="3635280" y="2031840"/>
            <a:ext cx="1328760" cy="865440"/>
          </a:xfrm>
          <a:prstGeom prst="ellipse">
            <a:avLst/>
          </a:prstGeom>
          <a:solidFill>
            <a:srgbClr val="dec2e4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Arial"/>
              </a:rPr>
              <a:t>Planowani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Elipsa 5"/>
          <p:cNvSpPr/>
          <p:nvPr/>
        </p:nvSpPr>
        <p:spPr>
          <a:xfrm>
            <a:off x="3575160" y="4692600"/>
            <a:ext cx="1330200" cy="862200"/>
          </a:xfrm>
          <a:prstGeom prst="ellipse">
            <a:avLst/>
          </a:prstGeom>
          <a:solidFill>
            <a:srgbClr val="dec2e4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Arial"/>
              </a:rPr>
              <a:t>Ocena efektów działalnośc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Elipsa 6"/>
          <p:cNvSpPr/>
          <p:nvPr/>
        </p:nvSpPr>
        <p:spPr>
          <a:xfrm>
            <a:off x="2046240" y="3360600"/>
            <a:ext cx="1197000" cy="930240"/>
          </a:xfrm>
          <a:prstGeom prst="ellipse">
            <a:avLst/>
          </a:prstGeom>
          <a:solidFill>
            <a:srgbClr val="dec2e4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Arial"/>
              </a:rPr>
              <a:t>Doskonaleni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Elipsa 7"/>
          <p:cNvSpPr/>
          <p:nvPr/>
        </p:nvSpPr>
        <p:spPr>
          <a:xfrm>
            <a:off x="5369040" y="3409920"/>
            <a:ext cx="1231920" cy="865080"/>
          </a:xfrm>
          <a:prstGeom prst="ellipse">
            <a:avLst/>
          </a:prstGeom>
          <a:solidFill>
            <a:srgbClr val="dec2e4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Arial"/>
              </a:rPr>
              <a:t>Wsparcie i działania operacyj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rostokąt 10"/>
          <p:cNvSpPr/>
          <p:nvPr/>
        </p:nvSpPr>
        <p:spPr>
          <a:xfrm>
            <a:off x="2693880" y="1633680"/>
            <a:ext cx="3384720" cy="264960"/>
          </a:xfrm>
          <a:prstGeom prst="rect">
            <a:avLst/>
          </a:prstGeom>
          <a:solidFill>
            <a:srgbClr val="ffffff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0000"/>
                </a:solidFill>
                <a:latin typeface="Arial"/>
              </a:rPr>
              <a:t>Zakres Systemu zarządzania środowiskoweg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rostokąt 33"/>
          <p:cNvSpPr/>
          <p:nvPr/>
        </p:nvSpPr>
        <p:spPr>
          <a:xfrm>
            <a:off x="252360" y="2031840"/>
            <a:ext cx="1476360" cy="695520"/>
          </a:xfrm>
          <a:prstGeom prst="rect">
            <a:avLst/>
          </a:prstGeom>
          <a:solidFill>
            <a:srgbClr val="ffffff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Czynniki wewnętrzne i zewnętrz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rostokąt 34"/>
          <p:cNvSpPr/>
          <p:nvPr/>
        </p:nvSpPr>
        <p:spPr>
          <a:xfrm>
            <a:off x="2341440" y="1235160"/>
            <a:ext cx="4391280" cy="268200"/>
          </a:xfrm>
          <a:prstGeom prst="rect">
            <a:avLst/>
          </a:prstGeom>
          <a:solidFill>
            <a:srgbClr val="ffffff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Arial"/>
              </a:rPr>
              <a:t>Kontekst Organizacj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rostokąt 35"/>
          <p:cNvSpPr/>
          <p:nvPr/>
        </p:nvSpPr>
        <p:spPr>
          <a:xfrm>
            <a:off x="3598920" y="5824440"/>
            <a:ext cx="1461960" cy="731880"/>
          </a:xfrm>
          <a:prstGeom prst="rect">
            <a:avLst/>
          </a:prstGeom>
          <a:solidFill>
            <a:srgbClr val="ffffff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Arial"/>
              </a:rPr>
              <a:t>Zamierzone wyniki systemu zarządzania środowiskoweg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Strzałka w prawo 36"/>
          <p:cNvSpPr/>
          <p:nvPr/>
        </p:nvSpPr>
        <p:spPr>
          <a:xfrm rot="2118600">
            <a:off x="1744200" y="2731680"/>
            <a:ext cx="549360" cy="28404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66ccff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rostokąt 39"/>
          <p:cNvSpPr/>
          <p:nvPr/>
        </p:nvSpPr>
        <p:spPr>
          <a:xfrm>
            <a:off x="7099200" y="1898640"/>
            <a:ext cx="1332000" cy="808200"/>
          </a:xfrm>
          <a:prstGeom prst="rect">
            <a:avLst/>
          </a:prstGeom>
          <a:solidFill>
            <a:srgbClr val="ffffff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Arial"/>
              </a:rPr>
              <a:t>Potrzeby i oczekiwania stron zainteresowanyc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Strzałka w prawo 44"/>
          <p:cNvSpPr/>
          <p:nvPr/>
        </p:nvSpPr>
        <p:spPr>
          <a:xfrm rot="8905800">
            <a:off x="6325560" y="2476080"/>
            <a:ext cx="747720" cy="276120"/>
          </a:xfrm>
          <a:prstGeom prst="rightArrow">
            <a:avLst>
              <a:gd name="adj1" fmla="val 50000"/>
              <a:gd name="adj2" fmla="val 50022"/>
            </a:avLst>
          </a:prstGeom>
          <a:solidFill>
            <a:srgbClr val="66ccff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7" name="Łącznik łamany 2"/>
          <p:cNvCxnSpPr>
            <a:endCxn id="303" idx="3"/>
          </p:cNvCxnSpPr>
          <p:nvPr/>
        </p:nvCxnSpPr>
        <p:spPr>
          <a:xfrm flipH="1">
            <a:off x="5060880" y="5666400"/>
            <a:ext cx="603720" cy="524160"/>
          </a:xfrm>
          <a:prstGeom prst="bentConnector3">
            <a:avLst>
              <a:gd name="adj1" fmla="val -1551"/>
            </a:avLst>
          </a:prstGeom>
          <a:ln w="1152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308" name="Łącznik łamany 16"/>
          <p:cNvCxnSpPr>
            <a:endCxn id="303" idx="1"/>
          </p:cNvCxnSpPr>
          <p:nvPr/>
        </p:nvCxnSpPr>
        <p:spPr>
          <a:xfrm flipH="1" flipV="1" rot="10800000">
            <a:off x="2842920" y="5756040"/>
            <a:ext cx="756360" cy="435600"/>
          </a:xfrm>
          <a:prstGeom prst="bentConnector3">
            <a:avLst>
              <a:gd name="adj1" fmla="val -238"/>
            </a:avLst>
          </a:prstGeom>
          <a:ln w="1152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309" name="Strzałka zakrzywiona w lewo 19"/>
          <p:cNvSpPr/>
          <p:nvPr/>
        </p:nvSpPr>
        <p:spPr>
          <a:xfrm rot="18985200">
            <a:off x="5492880" y="1963440"/>
            <a:ext cx="358560" cy="1514520"/>
          </a:xfrm>
          <a:custGeom>
            <a:avLst/>
            <a:gdLst>
              <a:gd name="textAreaLeft" fmla="*/ 47880 w 358560"/>
              <a:gd name="textAreaRight" fmla="*/ 310680 w 358560"/>
              <a:gd name="textAreaTop" fmla="*/ 344880 h 1514520"/>
              <a:gd name="textAreaBottom" fmla="*/ 1124640 h 151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841" stAng="-5400000" swAng="5400000"/>
                <a:lnTo>
                  <a:pt x="21600" y="11121"/>
                </a:lnTo>
                <a:arcTo wR="21600" hR="9841" stAng="0" swAng="1833213"/>
                <a:lnTo>
                  <a:pt x="13197" y="19550"/>
                </a:lnTo>
                <a:lnTo>
                  <a:pt x="0" y="20321"/>
                </a:lnTo>
                <a:lnTo>
                  <a:pt x="13197" y="16992"/>
                </a:lnTo>
                <a:lnTo>
                  <a:pt x="13197" y="17631"/>
                </a:lnTo>
                <a:arcTo wR="21600" hR="9841" stAng="1833213" swAng="-1731168"/>
                <a:lnTo>
                  <a:pt x="21554" y="10481"/>
                </a:lnTo>
                <a:arcTo wR="21600" hR="9841" stAng="-102045" swAng="-5297955"/>
                <a:close/>
              </a:path>
              <a:path fill="darkenLess" w="21600" h="21600">
                <a:moveTo>
                  <a:pt x="0" y="0"/>
                </a:moveTo>
                <a:arcTo wR="21600" hR="9841" stAng="-5400000" swAng="5400000"/>
                <a:lnTo>
                  <a:pt x="21600" y="11121"/>
                </a:lnTo>
                <a:arcTo wR="21600" hR="9841" stAng="0" swAng="-102045"/>
                <a:lnTo>
                  <a:pt x="21554" y="10481"/>
                </a:lnTo>
                <a:arcTo wR="21600" hR="9841" stAng="-102045" swAng="-5297955"/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Strzałka zakrzywiona w lewo 43"/>
          <p:cNvSpPr/>
          <p:nvPr/>
        </p:nvSpPr>
        <p:spPr>
          <a:xfrm rot="3382800">
            <a:off x="5398560" y="4147920"/>
            <a:ext cx="358560" cy="1514520"/>
          </a:xfrm>
          <a:custGeom>
            <a:avLst/>
            <a:gdLst>
              <a:gd name="textAreaLeft" fmla="*/ 47880 w 358560"/>
              <a:gd name="textAreaRight" fmla="*/ 310680 w 358560"/>
              <a:gd name="textAreaTop" fmla="*/ 344880 h 1514520"/>
              <a:gd name="textAreaBottom" fmla="*/ 1124640 h 151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841" stAng="-5400000" swAng="5400000"/>
                <a:lnTo>
                  <a:pt x="21600" y="11121"/>
                </a:lnTo>
                <a:arcTo wR="21600" hR="9841" stAng="0" swAng="1833213"/>
                <a:lnTo>
                  <a:pt x="13197" y="19550"/>
                </a:lnTo>
                <a:lnTo>
                  <a:pt x="0" y="20321"/>
                </a:lnTo>
                <a:lnTo>
                  <a:pt x="13197" y="16992"/>
                </a:lnTo>
                <a:lnTo>
                  <a:pt x="13197" y="17631"/>
                </a:lnTo>
                <a:arcTo wR="21600" hR="9841" stAng="1833213" swAng="-1731168"/>
                <a:lnTo>
                  <a:pt x="21554" y="10481"/>
                </a:lnTo>
                <a:arcTo wR="21600" hR="9841" stAng="-102045" swAng="-5297955"/>
                <a:close/>
              </a:path>
              <a:path fill="darkenLess" w="21600" h="21600">
                <a:moveTo>
                  <a:pt x="0" y="0"/>
                </a:moveTo>
                <a:arcTo wR="21600" hR="9841" stAng="-5400000" swAng="5400000"/>
                <a:lnTo>
                  <a:pt x="21600" y="11121"/>
                </a:lnTo>
                <a:arcTo wR="21600" hR="9841" stAng="0" swAng="-102045"/>
                <a:lnTo>
                  <a:pt x="21554" y="10481"/>
                </a:lnTo>
                <a:arcTo wR="21600" hR="9841" stAng="-102045" swAng="-5297955"/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Strzałka zakrzywiona w lewo 46"/>
          <p:cNvSpPr/>
          <p:nvPr/>
        </p:nvSpPr>
        <p:spPr>
          <a:xfrm rot="13627200">
            <a:off x="2742120" y="1900440"/>
            <a:ext cx="360360" cy="1514520"/>
          </a:xfrm>
          <a:custGeom>
            <a:avLst/>
            <a:gdLst>
              <a:gd name="textAreaLeft" fmla="*/ 48240 w 360360"/>
              <a:gd name="textAreaRight" fmla="*/ 312120 w 360360"/>
              <a:gd name="textAreaTop" fmla="*/ 344880 h 1514520"/>
              <a:gd name="textAreaBottom" fmla="*/ 1124640 h 151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837" stAng="-5400000" swAng="5400000"/>
                <a:lnTo>
                  <a:pt x="21600" y="11121"/>
                </a:lnTo>
                <a:arcTo wR="21600" hR="9837" stAng="0" swAng="1832602"/>
                <a:lnTo>
                  <a:pt x="13197" y="19551"/>
                </a:lnTo>
                <a:lnTo>
                  <a:pt x="0" y="20315"/>
                </a:lnTo>
                <a:lnTo>
                  <a:pt x="13197" y="16981"/>
                </a:lnTo>
                <a:lnTo>
                  <a:pt x="13197" y="17624"/>
                </a:lnTo>
                <a:arcTo wR="21600" hR="9837" stAng="1832602" swAng="-1730236"/>
                <a:lnTo>
                  <a:pt x="21554" y="10479"/>
                </a:lnTo>
                <a:arcTo wR="21600" hR="9837" stAng="-102366" swAng="-5297634"/>
                <a:close/>
              </a:path>
              <a:path fill="darkenLess" w="21600" h="21600">
                <a:moveTo>
                  <a:pt x="0" y="0"/>
                </a:moveTo>
                <a:arcTo wR="21600" hR="9837" stAng="-5400000" swAng="5400000"/>
                <a:lnTo>
                  <a:pt x="21600" y="11121"/>
                </a:lnTo>
                <a:arcTo wR="21600" hR="9837" stAng="0" swAng="-102366"/>
                <a:lnTo>
                  <a:pt x="21554" y="10479"/>
                </a:lnTo>
                <a:arcTo wR="21600" hR="9837" stAng="-102366" swAng="-5297634"/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Strzałka zakrzywiona w lewo 47"/>
          <p:cNvSpPr/>
          <p:nvPr/>
        </p:nvSpPr>
        <p:spPr>
          <a:xfrm rot="7782600">
            <a:off x="2741760" y="4262760"/>
            <a:ext cx="360360" cy="1514520"/>
          </a:xfrm>
          <a:custGeom>
            <a:avLst/>
            <a:gdLst>
              <a:gd name="textAreaLeft" fmla="*/ 48240 w 360360"/>
              <a:gd name="textAreaRight" fmla="*/ 312120 w 360360"/>
              <a:gd name="textAreaTop" fmla="*/ 344880 h 1514520"/>
              <a:gd name="textAreaBottom" fmla="*/ 1124640 h 151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837" stAng="-5400000" swAng="5400000"/>
                <a:lnTo>
                  <a:pt x="21600" y="11121"/>
                </a:lnTo>
                <a:arcTo wR="21600" hR="9837" stAng="0" swAng="1553490"/>
                <a:lnTo>
                  <a:pt x="14779" y="18937"/>
                </a:lnTo>
                <a:lnTo>
                  <a:pt x="0" y="20315"/>
                </a:lnTo>
                <a:lnTo>
                  <a:pt x="14779" y="16367"/>
                </a:lnTo>
                <a:lnTo>
                  <a:pt x="14779" y="17010"/>
                </a:lnTo>
                <a:arcTo wR="21600" hR="9837" stAng="1553490" swAng="-1451124"/>
                <a:lnTo>
                  <a:pt x="21554" y="10479"/>
                </a:lnTo>
                <a:arcTo wR="21600" hR="9837" stAng="-102366" swAng="-5297634"/>
                <a:close/>
              </a:path>
              <a:path fill="darkenLess" w="21600" h="21600">
                <a:moveTo>
                  <a:pt x="0" y="0"/>
                </a:moveTo>
                <a:arcTo wR="21600" hR="9837" stAng="-5400000" swAng="5400000"/>
                <a:lnTo>
                  <a:pt x="21600" y="11121"/>
                </a:lnTo>
                <a:arcTo wR="21600" hR="9837" stAng="0" swAng="-102366"/>
                <a:lnTo>
                  <a:pt x="21554" y="10479"/>
                </a:lnTo>
                <a:arcTo wR="21600" hR="9837" stAng="-102366" swAng="-5297634"/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ytuł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8437680" cy="58392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6840" y="1609200"/>
            <a:ext cx="800244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PLANUJ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–ustal cele środowiskowe i procesy niezbędne do osiągnięcia wyników zgodnych z polityką środowiskow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WYKONAJ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– wdróż procesy zgodnie z plan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SPRAWDŹ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– monitoruj i mierz procesy w odniesieniu do polityki środowiskowej, celów środowiskowych i kryteriów operacyjnych oraz informuj o wynika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DZIAŁAJ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– podejmij działania w celu ciągłego doskonaleni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ymbol zastępczy numeru slajdu 3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E1EAB-7D4D-4B4C-B760-107AF2305CCE}" type="slidenum">
              <a:rPr b="0" lang="pl-PL" sz="1100" spc="-1" strike="noStrike">
                <a:solidFill>
                  <a:srgbClr val="00ff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0T14:51:02Z</dcterms:created>
  <dc:creator>Computr</dc:creator>
  <dc:description/>
  <dc:language>en-US</dc:language>
  <cp:lastModifiedBy>Wioletta Kurek</cp:lastModifiedBy>
  <dcterms:modified xsi:type="dcterms:W3CDTF">2023-06-13T08:29:39Z</dcterms:modified>
  <cp:revision>104</cp:revision>
  <dc:subject/>
  <dc:title>EN-ISO 14001:1996</dc:title>
</cp:coreProperties>
</file>