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2SEXY2.WAV" ContentType="audio/x-wav"/>
  <Override PartName="/ppt/media/0_BAM.WAV" ContentType="audio/x-wav"/>
  <Override PartName="/ppt/media/AAAAAH.WAV" ContentType="audio/x-wav"/>
  <Override PartName="/ppt/media/image2.png" ContentType="image/png"/>
  <Override PartName="/ppt/media/KASA2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53BF-CC6D-4031-9D9E-436186D0735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. Rączka: Podstawy systemu ISO 9000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uty 200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RS Group - Zagadnienia podstawowe jakośc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A33-44C3-4CE5-9DEB-7C0CE22A5BF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. Rączka: Podstawy systemu ISO 9000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uty 200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RS Group - Zagadnienia podstawowe jakośc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2578-07E1-4193-B503-34EFD32D7D7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. Rączka: Podstawy systemu ISO 9000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uty 200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RS Group - Zagadnienia podstawowe jakośc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34C8-7A26-49F6-99DC-976D133BD22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B01D-BE99-4A96-8C2F-B0C08D38E61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. Rączka: Podstawy systemu ISO 9000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uty 200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RS Group - Zagadnienia podstawowe jakośc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F8CC-A70E-4AFF-9370-0CE18B1A2A7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. Rączka: Podstawy systemu ISO 9000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uty 200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RS Group - Zagadnienia podstawowe jakośc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3257-8B19-48AB-A18C-DF27D34BFF9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. Rączka: Podstawy systemu ISO 9000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uty 200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RS Group - Zagadnienia podstawowe jakośc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2BCD-A9F9-4460-B210-28F0C5D469A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14F-5906-4513-9207-F05102F0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869-1247-41F3-ADB3-F069E234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70C-9F54-45B0-9B1C-E63F4151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B53-80D2-476F-87DC-90ADC544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9769-39CF-4220-907D-F21E09E9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2B24-82E6-40C3-B42B-D1518B50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AF59-F838-49C8-825F-10AB18C7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A9A0-40E8-4EF1-BE6C-56E24F3E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F715-DD07-4984-94DC-AC90320B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A744-AEE9-4135-A2BB-C50D9D08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6548-F021-4BE0-879C-11A16B24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DDD-5BD8-488B-8B41-DD99E675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3862-A6E0-4FE4-9F74-36B85143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8138-E9EB-436A-8B21-F57BB3C8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206C-2BFE-43F5-B29B-5547A7C7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7EC1-252D-4BD0-B3A5-C5B6B91C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7B97-FD31-4E30-9A71-BFC3D22C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8CEF-5F3B-41A7-ABC9-CA37EA4C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F29AA-65C2-4952-8F53-693DB11F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1337-F23B-4AB5-AC3F-8D386850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D13C-B981-40CE-9800-648E2083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A96A-4CD6-4A17-9525-01D095F2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9F4-36F3-4CB6-9C68-D8D240B0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9A349-D99C-45FB-BAF4-D80C9BF2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E2B9-4B3A-4BA6-B4E5-C314D5FA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B380-13E6-4307-87CB-6232000A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9253-608B-4189-BD4E-C9D751ED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BD9D-7036-4843-ACB6-26338E6B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86C1-BEA3-421B-B1AC-627FF0B2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0906-0D02-4F34-AB42-4476DCDE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C105D-BE51-481E-B903-FCD05CBC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8DFB-969D-477C-B006-D263CEEB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D42C-1CF5-4C9C-B00B-D0809AFA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2BF-8E05-45C7-A553-8F024FEF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B3DA4-FC49-4C95-ACBF-D969B446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3327-ECF9-4FA6-9E66-BBCFF49B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B420-4F2D-4A69-82D3-32D53B47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AED61-9A63-45B7-8C87-3760F756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1D110-3A01-4AA5-9131-4D09F101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1EF5D-E8E1-4084-88C0-9962CCD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87ED5-159A-4240-843C-4CE0D0DD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FFCB3-3795-44BB-A308-2B7B3D2A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B3BE-0EAA-4B75-A3CE-D6481AF6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E7D09-0DF7-4CF1-BB7D-6F527BE8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43B-9DA8-4CE2-A271-35C903BE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AF6D3-BA1E-4B16-A6FE-4ED7A577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8AEDE-5D89-4161-9604-A51E5643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D7EBD-B7E6-43D8-AA6F-D5EE852C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70E8-B541-41D5-9F87-6259B206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09F9-4528-45C7-9B47-CC74F859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3CC6-20C4-4F1A-9467-9288327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23BF1-9B5F-4B31-AF97-8F8E42BF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F0F6-2F74-472D-9E20-30FA6BE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1724-352C-4193-98E9-B0DA18DC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E2972-1E35-4CAA-9EE9-12FB1299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1A8-130F-47CB-96C5-77FE0C6E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3D241-6642-4196-B9E8-28D84A1B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DAB-81B0-4E03-B6F0-68300591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F6D9-AB20-4C94-AC44-AE8FE0D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CC5-3271-4DC7-8273-A7C0FB4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BD50-81F8-4D22-AD24-DC978C211C99}" type="slidenum">
              <a:rPr b="0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A402-92D0-4CD6-80A1-9BD63166BDAE}" type="slidenum">
              <a:rPr b="0" lang="pl-PL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A290-4982-4BB0-AD67-90CDEB5EDFC5}" type="slidenum">
              <a:rPr b="0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66A1-26C9-40AB-AC26-A242A33B48EF}" type="slidenum">
              <a:rPr b="0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1943-A052-4569-8A3A-7CC648B7C7DF}" type="slidenum">
              <a:rPr b="0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2SEXY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2SEXY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ortalwiedzy.onet.pl/54200,,,,zwierzeta,haslo.html" TargetMode="External"/><Relationship Id="rId2" Type="http://schemas.openxmlformats.org/officeDocument/2006/relationships/hyperlink" Target="http://portalwiedzy.onet.pl/29071,,,,rosliny,haslo.html" TargetMode="External"/><Relationship Id="rId3" Type="http://schemas.openxmlformats.org/officeDocument/2006/relationships/hyperlink" Target="http://portalwiedzy.onet.pl/34319,,,,ziemia,haslo.html" TargetMode="External"/><Relationship Id="rId4" Type="http://schemas.openxmlformats.org/officeDocument/2006/relationships/hyperlink" Target="http://portalwiedzy.onet.pl/56961,,,,krajobraz,haslo.html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2SEXY2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2SEXY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0_BAM.WAV"/><Relationship Id="rId2" Type="http://schemas.openxmlformats.org/officeDocument/2006/relationships/audio" Target="../media/KASA2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0_BAM.WAV"/><Relationship Id="rId2" Type="http://schemas.openxmlformats.org/officeDocument/2006/relationships/audio" Target="../media/AAAAAH.WAV"/><Relationship Id="rId3" Type="http://schemas.openxmlformats.org/officeDocument/2006/relationships/audio" Target="../media/AAAAAH.WAV"/><Relationship Id="rId4" Type="http://schemas.openxmlformats.org/officeDocument/2006/relationships/audio" Target="../media/AAAAAH.WAV"/><Relationship Id="rId5" Type="http://schemas.openxmlformats.org/officeDocument/2006/relationships/audio" Target="../media/AAAAAH.WAV"/><Relationship Id="rId6" Type="http://schemas.openxmlformats.org/officeDocument/2006/relationships/audio" Target="../media/AAAAAH.WAV"/><Relationship Id="rId7" Type="http://schemas.openxmlformats.org/officeDocument/2006/relationships/audio" Target="../media/AAAAAH.WAV"/><Relationship Id="rId8" Type="http://schemas.openxmlformats.org/officeDocument/2006/relationships/audio" Target="../media/AAAAAH.WAV"/><Relationship Id="rId9" Type="http://schemas.openxmlformats.org/officeDocument/2006/relationships/audio" Target="../media/AAAAA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ole tekstowe 3"/>
          <p:cNvSpPr/>
          <p:nvPr/>
        </p:nvSpPr>
        <p:spPr>
          <a:xfrm>
            <a:off x="353880" y="2589120"/>
            <a:ext cx="50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udia podyplomow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rządzanie środowiskowe” ed. 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ole tekstowe 4"/>
          <p:cNvSpPr/>
          <p:nvPr/>
        </p:nvSpPr>
        <p:spPr>
          <a:xfrm>
            <a:off x="353880" y="3429000"/>
            <a:ext cx="559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  <a:ea typeface="Arial"/>
              </a:rPr>
              <a:t>Podstawowe pojęci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  <a:ea typeface="Arial"/>
              </a:rPr>
              <a:t>z dziedziny zarządzania jakością i środowiskoweg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ole tekstowe 5"/>
          <p:cNvSpPr/>
          <p:nvPr/>
        </p:nvSpPr>
        <p:spPr>
          <a:xfrm>
            <a:off x="353880" y="49021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ioletta Kurek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ole tekstowe 6"/>
          <p:cNvSpPr/>
          <p:nvPr/>
        </p:nvSpPr>
        <p:spPr>
          <a:xfrm>
            <a:off x="353880" y="51800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ata: 14.01.2023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pl-PL" sz="3600" spc="-1" strike="noStrike">
                <a:solidFill>
                  <a:srgbClr val="90c226"/>
                </a:solidFill>
                <a:latin typeface="Trebuchet MS"/>
              </a:rPr>
              <a:t>ZARZĄDZANIE JAKOŚCI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520" y="1981080"/>
            <a:ext cx="8533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Uzyskanie odpowiedniej  jakości wymaga zaangażowania całej załogi, natomiast  zarządzanie jakością spoczywa na dyrekcji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Zarządzanie jakością zawiera planowanie strategiczne i wszelkie systematyczne działania dotyczące jakości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Symbol zastępczy daty 4"/>
          <p:cNvSpPr/>
          <p:nvPr/>
        </p:nvSpPr>
        <p:spPr>
          <a:xfrm>
            <a:off x="540540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ymbol zastępczy numeru slajdu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F41B-4DBC-4749-8392-ABB617E19B22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2SEX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900" spc="-1" strike="noStrike">
                <a:solidFill>
                  <a:srgbClr val="90c226"/>
                </a:solidFill>
                <a:latin typeface="Trebuchet MS"/>
              </a:rPr>
              <a:t>TQM </a:t>
            </a:r>
            <a:r>
              <a:rPr b="1" lang="pl-PL" sz="2800" spc="-1" strike="noStrike">
                <a:solidFill>
                  <a:srgbClr val="90c226"/>
                </a:solidFill>
                <a:latin typeface="Trebuchet MS"/>
              </a:rPr>
              <a:t>- KOMPLEKSOWE</a:t>
            </a:r>
            <a:r>
              <a:rPr b="0" lang="pl-PL" sz="28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pl-PL" sz="2800" spc="-1" strike="noStrike">
                <a:solidFill>
                  <a:srgbClr val="90c226"/>
                </a:solidFill>
                <a:latin typeface="Trebuchet MS"/>
              </a:rPr>
              <a:t>ZARZĄDZANIE </a:t>
            </a:r>
            <a:br>
              <a:rPr sz="2800"/>
            </a:br>
            <a:r>
              <a:rPr b="1" lang="pl-PL" sz="2800" spc="-1" strike="noStrike">
                <a:solidFill>
                  <a:srgbClr val="90c226"/>
                </a:solidFill>
                <a:latin typeface="Trebuchet MS"/>
              </a:rPr>
              <a:t>przez JAKOŚĆ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06440" y="2095560"/>
            <a:ext cx="8331120" cy="390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Sposób zarządzania organizacją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skoncentrowany na jakości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oparty na udziale wszystkich członków organizacji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i nakierowany  na osiągnięcie długotrwałego sukcesu </a:t>
            </a:r>
            <a:br>
              <a:rPr sz="2400"/>
            </a:b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dzięki zadowoleniu klienta oraz korzyściom dla wszystkich członków organizacji i dla społeczeństwa</a:t>
            </a:r>
            <a:r>
              <a:rPr b="1" lang="pl-P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Symbol zastępczy daty 4"/>
          <p:cNvSpPr/>
          <p:nvPr/>
        </p:nvSpPr>
        <p:spPr>
          <a:xfrm>
            <a:off x="540540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ymbol zastępczy numeru slajdu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B616-89C5-47FF-BBC0-2727EAB84931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2SEX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90c226"/>
                </a:solidFill>
                <a:latin typeface="Trebuchet MS"/>
              </a:rPr>
              <a:t>POLITYKA JAKOŚCI i CEL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Ogół zamierzeń i ukierunkowanie organizacji dotyczące jakości formalnie wyrażone przez najwyższe kierownictw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Należy określić cele polityki jakości </a:t>
            </a:r>
            <a:br>
              <a:rPr sz="2400"/>
            </a:b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i sposoby ich realizacj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Wszyscy pracownicy przedsiębiorstwa powinni znać i rozumieć cele jakie stoją przed nim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Cele powinny być mierzaln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Symbol zastępczy daty 3"/>
          <p:cNvSpPr/>
          <p:nvPr/>
        </p:nvSpPr>
        <p:spPr>
          <a:xfrm>
            <a:off x="540540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EFD3-B94E-4C67-A50E-03F462CD9357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rebuchet MS"/>
              </a:rPr>
              <a:t>PN-EN- ISO 14050:2010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rebuchet MS"/>
              </a:rPr>
              <a:t>Zarządzanie środowiskowe - Terminologi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C2B4-8A34-4C8F-B389-3C34CBD9AE3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6" descr="Znalezione obrazy dla zapytania ochrona środowiska"/>
          <p:cNvPicPr/>
          <p:nvPr/>
        </p:nvPicPr>
        <p:blipFill>
          <a:blip r:embed="rId1"/>
          <a:stretch/>
        </p:blipFill>
        <p:spPr>
          <a:xfrm>
            <a:off x="4583160" y="4303800"/>
            <a:ext cx="37227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920" y="306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Arial,Bold"/>
              </a:rPr>
              <a:t>Główne grupy terminologii PN-EN ISO 14050 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50560" y="1197000"/>
            <a:ext cx="878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300" spc="-1" strike="noStrike">
                <a:solidFill>
                  <a:srgbClr val="404040"/>
                </a:solidFill>
                <a:latin typeface="Arial"/>
                <a:ea typeface="Arial"/>
              </a:rPr>
              <a:t>Ogólne terminy dotyczące zarządzania środowiskowego,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300" spc="-1" strike="noStrike">
                <a:solidFill>
                  <a:srgbClr val="404040"/>
                </a:solidFill>
                <a:latin typeface="Arial"/>
                <a:ea typeface="Arial"/>
              </a:rPr>
              <a:t>Terminy dotyczące systemów zarządzania środowiskowego,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300" spc="-1" strike="noStrike">
                <a:solidFill>
                  <a:srgbClr val="404040"/>
                </a:solidFill>
                <a:latin typeface="Arial"/>
                <a:ea typeface="Arial"/>
              </a:rPr>
              <a:t>Terminy dotyczące walidacji, weryfikacji i auditowania,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300" spc="-1" strike="noStrike">
                <a:solidFill>
                  <a:srgbClr val="404040"/>
                </a:solidFill>
                <a:latin typeface="Arial"/>
                <a:ea typeface="Arial"/>
              </a:rPr>
              <a:t>Terminy dotyczące systemu wyrobu,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300" spc="-1" strike="noStrike">
                <a:solidFill>
                  <a:srgbClr val="404040"/>
                </a:solidFill>
                <a:latin typeface="Arial"/>
                <a:ea typeface="Arial"/>
              </a:rPr>
              <a:t>Terminy dotyczące oceny cyklu życia,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300" spc="-1" strike="noStrike">
                <a:solidFill>
                  <a:srgbClr val="404040"/>
                </a:solidFill>
                <a:latin typeface="Arial"/>
                <a:ea typeface="Arial"/>
              </a:rPr>
              <a:t>Terminy dotyczące etykietowania i deklaracji środowiskowych oraz komunikacji środowiskowej,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300" spc="-1" strike="noStrike">
                <a:solidFill>
                  <a:srgbClr val="404040"/>
                </a:solidFill>
                <a:latin typeface="Arial"/>
                <a:ea typeface="Arial"/>
              </a:rPr>
              <a:t>Terminy dotyczące gazów cieplarnianych,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300" spc="-1" strike="noStrike">
                <a:solidFill>
                  <a:srgbClr val="404040"/>
                </a:solidFill>
                <a:latin typeface="Arial"/>
                <a:ea typeface="Arial"/>
              </a:rPr>
              <a:t>Załącznik A – Dodatkowe pojęcia spotykane w międzynarodowej społeczności zajmującej się ochroną środowiska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C981-8E10-469D-BD9A-59B8A821517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90c226"/>
                </a:solidFill>
                <a:latin typeface="Arial"/>
                <a:ea typeface="Arial"/>
              </a:rPr>
              <a:t>Środowisko – ustawa POŚ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Ogół elementów przyrodniczych, w tym także przekształconych w wyniku działalności człowieka, a w szczególności </a:t>
            </a:r>
            <a:r>
              <a:rPr b="0" lang="pl-PL" sz="2800" spc="-1" strike="noStrike">
                <a:solidFill>
                  <a:srgbClr val="0000cc"/>
                </a:solidFill>
                <a:latin typeface="Trebuchet MS"/>
              </a:rPr>
              <a:t>powierzchnię ziemi, kopaliny, wody, powietrze, krajobraz, klimat oraz pozostałe elementy różnorodności biologicznej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, a także wzajemne oddziaływania pomiędzy tymi elementami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7A1B-5712-4402-8D05-F84414FCBB2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20252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90c226"/>
                </a:solidFill>
                <a:latin typeface="Trebuchet MS"/>
              </a:rPr>
              <a:t>Środowisko - Wikiped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9528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600" spc="-1" strike="noStrike">
                <a:solidFill>
                  <a:srgbClr val="404040"/>
                </a:solidFill>
                <a:latin typeface="Trebuchet MS"/>
              </a:rPr>
              <a:t>Środowisko</a:t>
            </a: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 – ogół elementów nieożywionych  i ożywionych, zarówno naturalnych, jak i powstałych w wyniku działalności człowieka, występujących na określonym obszarze oraz ich wzajemne powiązania, oddziaływania i zależności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Trebuchet MS"/>
              </a:rPr>
              <a:t>Środowisko</a:t>
            </a: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, ogół elementów przyrodniczych ożywionych (świat </a:t>
            </a:r>
            <a:r>
              <a:rPr b="0" lang="pl-PL" sz="2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zwierzęcy</a:t>
            </a: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 i </a:t>
            </a:r>
            <a:r>
              <a:rPr b="0" lang="pl-PL" sz="22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roślinny</a:t>
            </a: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) i nieożywionych (w szczególności powierzchnia </a:t>
            </a:r>
            <a:r>
              <a:rPr b="0" lang="pl-PL" sz="2200" spc="-1" strike="noStrike" u="sng">
                <a:solidFill>
                  <a:srgbClr val="99ca3c"/>
                </a:solidFill>
                <a:uFillTx/>
                <a:latin typeface="Trebuchet MS"/>
                <a:hlinkClick r:id="rId3"/>
              </a:rPr>
              <a:t>Ziemi</a:t>
            </a: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 łącznie z wodą, glebą, kopalinami </a:t>
            </a:r>
            <a:br>
              <a:rPr sz="2200"/>
            </a:b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i powietrzem), a także </a:t>
            </a:r>
            <a:r>
              <a:rPr b="0" lang="pl-PL" sz="2200" spc="-1" strike="noStrike" u="sng">
                <a:solidFill>
                  <a:srgbClr val="99ca3c"/>
                </a:solidFill>
                <a:uFillTx/>
                <a:latin typeface="Trebuchet MS"/>
                <a:hlinkClick r:id="rId4"/>
              </a:rPr>
              <a:t>krajobraz</a:t>
            </a: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, naturalny bądź też użytkowany </a:t>
            </a:r>
            <a:br>
              <a:rPr sz="2200"/>
            </a:b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i zmieniany przez człowieka  </a:t>
            </a:r>
            <a:r>
              <a:rPr b="0" lang="pl-PL" sz="1700" spc="-1" strike="noStrike">
                <a:solidFill>
                  <a:srgbClr val="ff0000"/>
                </a:solidFill>
                <a:latin typeface="Trebuchet MS"/>
              </a:rPr>
              <a:t>(WIEM- encyklopedia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Symbol zastępczy numeru slajdu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2AE5-29A0-4346-983D-ED07A8E5116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90c226"/>
                </a:solidFill>
                <a:latin typeface="Arial"/>
                <a:ea typeface="Arial"/>
              </a:rPr>
              <a:t>Poważna awaria - POŚ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480" y="1483920"/>
            <a:ext cx="785016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Poważna awaria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–zdarzenie, w szczególności emisję, pożar lub eksplozję, powstałe w trakcie procesu przemysłowego, magazynowania lub transportu, w których występuje jedna lub więcej niebezpiecznych substancji, prowadzące do natychmiastowego powstania zagrożenia życia lub zdrowia ludzi lub środowiska lub powstania takiego zagrożenia z opóźnieniem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Poważna awaria przemysłowa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–poważna awaria w zakładzi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Symbol zastępczy numeru slajdu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3929-A64C-4ECD-8526-EF6129A8728D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600" spc="-1" strike="noStrike">
                <a:solidFill>
                  <a:srgbClr val="90c226"/>
                </a:solidFill>
                <a:latin typeface="Trebuchet MS"/>
              </a:rPr>
              <a:t>PN-EN-ISO 14050:2010</a:t>
            </a: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09120" y="1628280"/>
            <a:ext cx="734724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Środowisko -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otoczenie, w którym działa organizacja, z uwzględnieniem powietrza, wody, ziemi, zasobów naturalnych, flory, fauny, ludzi i ich wzajemnych zależności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600" spc="-1" strike="noStrike">
                <a:solidFill>
                  <a:srgbClr val="404040"/>
                </a:solidFill>
                <a:latin typeface="Trebuchet MS"/>
              </a:rPr>
              <a:t>UWAGA - W tym kontekście pojęcie otoczenia dotyczy obszaru od organizacji do systemu globalnego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B9A5-1F51-4C75-A3BE-39398AC239B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496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  <a:ea typeface="Arial"/>
              </a:rPr>
              <a:t>Ogólne terminy dotyczące zarządzania środowiskowego </a:t>
            </a:r>
            <a:br>
              <a:rPr sz="25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  <a:ea typeface="Arial"/>
              </a:rPr>
              <a:t>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Aspekt środowiskowy -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element działań organizacji, jej wyrobów </a:t>
            </a:r>
            <a:br>
              <a:rPr sz="2800"/>
            </a:b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lub usług, który może wzajemnie oddziaływać ze środowiskie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600" spc="-1" strike="noStrike">
                <a:solidFill>
                  <a:srgbClr val="404040"/>
                </a:solidFill>
                <a:latin typeface="Trebuchet MS"/>
              </a:rPr>
              <a:t>Uwaga: Znaczący aspekt środowiskowy to ten, który ma lub może mieć znaczący wpływ </a:t>
            </a:r>
            <a:br>
              <a:rPr sz="2600"/>
            </a:br>
            <a:r>
              <a:rPr b="0" i="1" lang="pl-PL" sz="2600" spc="-1" strike="noStrike">
                <a:solidFill>
                  <a:srgbClr val="404040"/>
                </a:solidFill>
                <a:latin typeface="Trebuchet MS"/>
              </a:rPr>
              <a:t>na środowisko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20DC-B2F1-43EA-98EE-C47FCB6DAEB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400" spc="-1" strike="noStrike">
                <a:solidFill>
                  <a:srgbClr val="0000cc"/>
                </a:solidFill>
                <a:latin typeface="Arial"/>
                <a:ea typeface="Arial"/>
              </a:rPr>
              <a:t>Zarządzanie jakością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"/>
                <a:ea typeface="Arial"/>
              </a:rPr>
              <a:t>ISO 9001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Symbol zastępczy numeru slajdu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9C93-F7C8-4E79-BFDB-059E234C824F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920" y="609480"/>
            <a:ext cx="864216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4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480" y="1628280"/>
            <a:ext cx="7491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Wpływ na środowisko -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każda zmiana w środowisku, zarówno niekorzystna jak i korzystna, która w całości lub częściowo jest spowodowana działaniami organizacji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0D12-A7AF-4476-8259-E426386DFAB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9640" y="1413000"/>
            <a:ext cx="79185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3000" spc="-1" strike="noStrike">
                <a:solidFill>
                  <a:srgbClr val="404040"/>
                </a:solidFill>
                <a:latin typeface="Trebuchet MS"/>
              </a:rPr>
              <a:t>Organizacja - </a:t>
            </a:r>
            <a:r>
              <a:rPr b="0" lang="pl-PL" sz="3000" spc="-1" strike="noStrike">
                <a:solidFill>
                  <a:srgbClr val="404040"/>
                </a:solidFill>
                <a:latin typeface="Trebuchet MS"/>
              </a:rPr>
              <a:t>spółka, korporacja, firma, przedsiębiorstwo, organ władzy lub instytucja, albo jakakolwiek ich część lub kombinacja, samodzielna lub nie, publiczna lub prywatna, </a:t>
            </a:r>
            <a:r>
              <a:rPr b="0" lang="pl-PL" sz="3000" spc="-1" strike="noStrike">
                <a:solidFill>
                  <a:srgbClr val="ff0000"/>
                </a:solidFill>
                <a:latin typeface="Trebuchet MS"/>
              </a:rPr>
              <a:t>o własnych zadaniach i administracji</a:t>
            </a:r>
            <a:r>
              <a:rPr b="0" lang="pl-PL" sz="3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404040"/>
                </a:solidFill>
                <a:latin typeface="Trebuchet MS"/>
              </a:rPr>
              <a:t>UWAGA - w organizacjach, w których działa </a:t>
            </a:r>
            <a:br>
              <a:rPr sz="2400"/>
            </a:br>
            <a:r>
              <a:rPr b="0" i="1" lang="pl-PL" sz="2400" spc="-1" strike="noStrike">
                <a:solidFill>
                  <a:srgbClr val="404040"/>
                </a:solidFill>
                <a:latin typeface="Trebuchet MS"/>
              </a:rPr>
              <a:t>więcej niż jedna jednostka, pojedyncza jednostka może być zdefiniowana jako organizacj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3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E87C-2976-461A-80CD-E0CAB173375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600" spc="-1" strike="noStrike">
                <a:solidFill>
                  <a:srgbClr val="90c226"/>
                </a:solidFill>
                <a:latin typeface="Trebuchet MS"/>
              </a:rPr>
              <a:t>Terminy i definicj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600" spc="-1" strike="noStrike">
                <a:solidFill>
                  <a:srgbClr val="404040"/>
                </a:solidFill>
                <a:latin typeface="Trebuchet MS"/>
              </a:rPr>
              <a:t>Cel środowiskowy</a:t>
            </a: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 – ogólny cel środowiskowy, spójny z polityką środowiskową, który organizacja ustala sobie do osiągnięcia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600" spc="-1" strike="noStrike">
                <a:solidFill>
                  <a:srgbClr val="404040"/>
                </a:solidFill>
                <a:latin typeface="Trebuchet MS"/>
              </a:rPr>
              <a:t>Zadanie środowiskowe</a:t>
            </a: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 – szczegółowe wymaganie dotyczące efektów działalności, mające zastosowanie do organizacji lub jej części, wynikające z celów środowiskowych, które należy określić oraz zrealizować, aby osiągnąć te cel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BBF2-967B-475D-BDE9-DFD2C7DA6EC2}" type="slidenum">
              <a:rPr b="1" lang="pl-PL" sz="1100" spc="-1" strike="noStrike">
                <a:solidFill>
                  <a:srgbClr val="2c3c43"/>
                </a:solidFill>
                <a:latin typeface="Times New Roman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Trebuchet MS"/>
              </a:rPr>
              <a:t>Strona zainteresowan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Osoba  lub grupa, zainteresowana efektami lub wynikami organizacji lub systemu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49CE-A1CF-4D4D-A11E-0D48DF477D5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Trebuchet MS"/>
              </a:rPr>
              <a:t>Strona zainteresowan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Każda strona, której dotyczy program etykietowania środowiskowego I typu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24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9125-47C1-4E71-9064-8AE5327EA92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000" spc="-1" strike="noStrike">
                <a:solidFill>
                  <a:srgbClr val="404040"/>
                </a:solidFill>
                <a:latin typeface="Trebuchet MS"/>
              </a:rPr>
              <a:t>Strona zainteresowan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000" spc="-1" strike="noStrike">
                <a:solidFill>
                  <a:srgbClr val="404040"/>
                </a:solidFill>
                <a:latin typeface="Trebuchet MS"/>
              </a:rPr>
              <a:t>Osoba lub jednostka organizacyjna  zainteresowana lub związana z opracowaniem i stosowaniem deklaracji  środowiskowej  III typu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25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5F9A-ED7E-41E0-A43F-21693FBA8EA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94920" y="1412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Strona trzecia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osoba lub jednostka organizacyjna uznana za niezależną od stron zaangażowanych w rozpatrywane zagadnien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404040"/>
                </a:solidFill>
                <a:latin typeface="Trebuchet MS"/>
              </a:rPr>
              <a:t>Uwaga : „stronami zaangażowanymi” są zwykle dostawca (strona pierwsza) i nabywca (strona druga)  [ISO 14024]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EABD-E949-48D3-8404-907FBA164AE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1212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94920" y="1773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Trebuchet MS"/>
              </a:rPr>
              <a:t>Certyfikacja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ocedura, w wyniku której strona trzecia udziela pisemnego zapewnienia, że wyrób, proces lub usługa są zgodne z wyspecyfikowanymi wymaganiami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24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1BD5-7B13-459F-819B-2EBA0E7CC0A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1212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4920" y="1557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Zapobieganie zanieczyszczeniom -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stosowanie procesów, praktyk, technik, materiałów, wyrobów, usług lub energii w celu uniknięcia, ograniczenia lub nadzorowania (osobno lub łącznie) powstawania, emisji lub uwolnień wszelkiego rodzaju  zanieczyszczeń lub odpadów w celu zmniejszenia negatywnych wpływów na środowisk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900" spc="-1" strike="noStrike">
                <a:solidFill>
                  <a:srgbClr val="404040"/>
                </a:solidFill>
                <a:latin typeface="Trebuchet MS"/>
              </a:rPr>
              <a:t>Uwaga:</a:t>
            </a:r>
            <a:r>
              <a:rPr b="0" i="1" lang="pl-PL" sz="1900" spc="-1" strike="noStrike">
                <a:solidFill>
                  <a:srgbClr val="404040"/>
                </a:solidFill>
                <a:latin typeface="Trebuchet MS"/>
              </a:rPr>
              <a:t> Zapobieganie zanieczyszczeniom może obejmować ograniczenie lub eliminację u źródła, zmiany procesu, wyrobu lub usługi, efektywne wykorzystanie zasobów, zastępowanie materiałów i energii, ponowne użycie, odzysk, recykling, regenerację i przetwarzanie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3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D2A9-4219-4C6E-86DA-B6817CCDA4E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1212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4920" y="1557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Odpad –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substancje lub przedmioty, których posiadacz zamierza się pozbyć lub jest zobowiązany się pozby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: odpad jest również zdefiniowany w ISO 14040 z punktu widzenia oceny cyklu życia jako „ wszelkie wyjścia z systemu wyrobu, które są usuwane”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6A0E-B295-4E72-928B-70B9F119374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92280" y="41400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500" spc="-1" strike="noStrike">
                <a:solidFill>
                  <a:srgbClr val="90c226"/>
                </a:solidFill>
                <a:latin typeface="Trebuchet MS"/>
              </a:rPr>
              <a:t>DEFINICJE</a:t>
            </a:r>
            <a:r>
              <a:rPr b="1" lang="pl-PL" sz="3200" spc="-1" strike="noStrike">
                <a:solidFill>
                  <a:srgbClr val="90c226"/>
                </a:solidFill>
                <a:latin typeface="Trebuchet MS"/>
              </a:rPr>
              <a:t> - JAKOŚĆ 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Tahoma"/>
              </a:rPr>
              <a:t>Jakość jest to pewien stopień doskonałości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2000" spc="-1" strike="noStrike">
                <a:solidFill>
                  <a:srgbClr val="404040"/>
                </a:solidFill>
                <a:latin typeface="Tahoma"/>
              </a:rPr>
              <a:t>Plat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Tahoma"/>
              </a:rPr>
              <a:t>Jakość jest jedną z dziesięciu kategorii, które umożliwiają podział wszystkich pojęć na grupy logiczne (czas, miejsce, ilość, .....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2000" spc="-1" strike="noStrike">
                <a:solidFill>
                  <a:srgbClr val="404040"/>
                </a:solidFill>
                <a:latin typeface="Tahoma"/>
              </a:rPr>
              <a:t>Arystotel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Tahoma"/>
              </a:rPr>
              <a:t>Jakość to zespół cech stanowiących o tym, że dany wyrób jest tym a nie innym przedmio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2000" spc="-1" strike="noStrike">
                <a:solidFill>
                  <a:srgbClr val="404040"/>
                </a:solidFill>
                <a:latin typeface="Tahoma"/>
              </a:rPr>
              <a:t>Mały Słownik Języka Polskieg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Symbol zastępczy daty 3"/>
          <p:cNvSpPr/>
          <p:nvPr/>
        </p:nvSpPr>
        <p:spPr>
          <a:xfrm>
            <a:off x="540540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33DA-A095-4F3C-955D-81FB4521DE02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2SEX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1212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95280" y="1699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000" spc="-1" strike="noStrike">
                <a:solidFill>
                  <a:srgbClr val="404040"/>
                </a:solidFill>
                <a:latin typeface="Trebuchet MS"/>
              </a:rPr>
              <a:t>Efekty działalności środowiskowej</a:t>
            </a:r>
            <a:r>
              <a:rPr b="0" lang="pl-PL" sz="3000" spc="-1" strike="noStrike">
                <a:solidFill>
                  <a:srgbClr val="404040"/>
                </a:solidFill>
                <a:latin typeface="Trebuchet MS"/>
              </a:rPr>
              <a:t> - możliwe do zmierzenia wyniki zarządzania przez organizację  swoimi aspektami środowiskowymi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; w kontekście systemu zarządzania środowiskowego, wyniki mogą być mierzone w odniesieniu do polityki środowiskowej, organizacji, celów środowiskowych, zadań środowiskowych  i innych wymagań dotyczących efektów działalności środowiskowej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1B45-D484-4ADB-A6E7-26E81A9806C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1212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4920" y="1699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Ocena efektów działalności środowiskowej EPE - </a:t>
            </a:r>
            <a:r>
              <a:rPr b="0" lang="pl-PL" sz="2800" spc="-1" strike="noStrike">
                <a:solidFill>
                  <a:srgbClr val="ff0000"/>
                </a:solidFill>
                <a:latin typeface="Trebuchet MS"/>
              </a:rPr>
              <a:t>proces ułatwiający decyzje w obszarze zarządzania efektami działalności środowiskowej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organizacji poprzez wybór wskaźników, gromadzenie i analizę danych, ocenę informacji w odniesieniu do kryteriów efektów działalności środowiskowej, raportowanie i komunikowanie oraz okresowe przeglądanie i doskonalenie tego procesu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[ISO 14031]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99D1-8C15-4AF7-AAD9-11753F56477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1212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4920" y="169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Kryterium efektów działalności środowiskowej - </a:t>
            </a:r>
            <a:r>
              <a:rPr b="0" lang="pl-PL" sz="2800" spc="-1" strike="noStrike">
                <a:solidFill>
                  <a:srgbClr val="ff0000"/>
                </a:solidFill>
                <a:latin typeface="Trebuchet MS"/>
              </a:rPr>
              <a:t>środowiskowy cel, zadanie lub inny zamierzony poziom efektów działalności środowiskowej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ustalone przez kierownictwo organizacji i zastosowane w celu oceny efektów działalności środowiskowej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1800" spc="-1" strike="noStrike">
                <a:solidFill>
                  <a:srgbClr val="404040"/>
                </a:solidFill>
                <a:latin typeface="Trebuchet MS"/>
              </a:rPr>
              <a:t>[ISO 14031]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AF03-F41A-4299-8CA5-E36981BCDB9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1212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Ogólne terminy dotyczące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94920" y="169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Wskaźnik stanu środowiska ECI -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specyficzne wyrażenie, które dostarcza informacji na temat </a:t>
            </a:r>
            <a:r>
              <a:rPr b="0" lang="pl-PL" sz="2800" spc="-1" strike="noStrike" u="sng">
                <a:solidFill>
                  <a:srgbClr val="404040"/>
                </a:solidFill>
                <a:uFillTx/>
                <a:latin typeface="Trebuchet MS"/>
              </a:rPr>
              <a:t>lokalnego, regionalnego, krajowego lub globalnego stanu środowisk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just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   “Regionalny” może dotyczyć państwa, prowincji lub grupy  regionów w państwie lub może dotyczyć grupy krajów lub kontynentu, zależnie od skali stanu środowiska, którą organizacja przyjęła do rozważań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1800" spc="-1" strike="noStrike">
                <a:solidFill>
                  <a:srgbClr val="404040"/>
                </a:solidFill>
                <a:latin typeface="Trebuchet MS"/>
              </a:rPr>
              <a:t>[ISO 14031]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E298-3C8C-4443-8CD3-BF9279AEE5F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1212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systemów zarządzania środowiskowego </a:t>
            </a:r>
            <a:br>
              <a:rPr sz="16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8920" y="1270080"/>
            <a:ext cx="8713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743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System zarządzania środowiskowego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Część systemu zarządzania organizacji, wykorzystywana do opracowania i wdrożenia jej polityki środowiskowej i zarządzania jej aspektami środowiskowymi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Uwaga1 System zarządzania jest zbiorem wzajemnie powiązanych elementów wykorzystywanych do ustanowienia polityki i celów oraz osiągania tych celów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Uwaga2  System zarządzania  obejmuje strukturę organizacyjną, planowanie, odpowiedzialność, praktyki, procedury, procesy i zasoby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ADE0-1F16-4853-AA0B-8216D91C319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300"/>
            </a:b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systemów zarządzania środowiskowego </a:t>
            </a:r>
            <a:br>
              <a:rPr sz="9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0920" y="1412640"/>
            <a:ext cx="82818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Polityka środowiskow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ogół zamierzeń i ukierunkowanie organizacji  dotycząca  efektów działalności środowiskowej formalnie wyrażone przez najwyższe kierownictw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: Polityka środowiskowa stanowi  ramy do działania</a:t>
            </a:r>
            <a:br>
              <a:rPr sz="2000"/>
            </a:b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 i ustalania celów oraz zadań środowiskowy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3D66-1D71-40D5-928C-DE397800AD5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systemów zarządzania środowiskowego </a:t>
            </a:r>
            <a:br>
              <a:rPr sz="9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Cel środowiskow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ogólny cel środowiskowy, spójny  z polityką środowiskową, który organizacja ustala sobie do osiągnięcia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C7A2-986C-4BA5-B8B9-77A3CE3C18D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systemów zarządzania środowiskowego </a:t>
            </a:r>
            <a:br>
              <a:rPr sz="9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23640" y="1557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Zadanie środowiskowe -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szczegółowe wymaganie dotyczące efektów działalności, mające zastosowanie do organizacji albo jej części, wynikające z celów środowiskowych, które należy określić oraz zrealizować, aby osiągnąć te cel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F6F7-302F-49F8-B3C3-C19420051FC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systemów zarządzania środowiskowego </a:t>
            </a:r>
            <a:br>
              <a:rPr sz="9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94920" y="206064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Ciągłe doskonalen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Powtarzający się proces usprawniania systemu zarządzania środowiskowego, który ma na celu uzyskanie poprawy  ogólnych efektów działalności środowiskowej, zgodnie z polityką środowiskową organizacji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 - Nie jest konieczne realizowanie tego procesu jednocześnie we wszystkich obszarach działań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E1DC-31E7-43EE-919F-DB4CDBCDF45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systemów zarządzania środowiskowego </a:t>
            </a:r>
            <a:br>
              <a:rPr sz="9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4920" y="206064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Procedura 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- ustalony sposób przeprowadzenia działania lub procesu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 1: procedura może być udokumentowana lub n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4D0B-473F-4F2C-A3E0-10B55D75304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90c226"/>
                </a:solidFill>
                <a:latin typeface="Trebuchet MS"/>
              </a:rPr>
              <a:t>Jakość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03440" y="1676520"/>
            <a:ext cx="77724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Ogół własności obiektu wiążących się </a:t>
            </a:r>
            <a:br>
              <a:rPr sz="2600"/>
            </a:b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z jego zdolnością do zaspokojenia potrzeb stwierdzonych i oczekiwanych</a:t>
            </a:r>
            <a:r>
              <a:rPr b="1" lang="pl-PL" sz="2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pl-PL" sz="1900" spc="-1" strike="noStrike">
                <a:solidFill>
                  <a:srgbClr val="404040"/>
                </a:solidFill>
                <a:latin typeface="Trebuchet MS"/>
              </a:rPr>
              <a:t>(ISO 8402:1994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Stopień w jakim zbiór inherentnych (przynależnych) właściwości spełnia wymagania</a:t>
            </a:r>
            <a:r>
              <a:rPr b="0" lang="pl-PL" sz="17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pl-PL" sz="1900" spc="-1" strike="noStrike">
                <a:solidFill>
                  <a:srgbClr val="404040"/>
                </a:solidFill>
                <a:latin typeface="Trebuchet MS"/>
              </a:rPr>
              <a:t>(ISO 9000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404040"/>
                </a:solidFill>
                <a:latin typeface="Trebuchet MS"/>
              </a:rPr>
              <a:t>Uwaga 1. Jakość może być określana jako niska, dobra, doskonała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404040"/>
                </a:solidFill>
                <a:latin typeface="Trebuchet MS"/>
              </a:rPr>
              <a:t>Uwaga 2. Słowo „inherentny” jako przeciwieństwo słowa „przypisany” oznacza istniejący jako sam w sobie, szczególnie jako stała właściwość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Symbol zastępczy daty 3"/>
          <p:cNvSpPr/>
          <p:nvPr/>
        </p:nvSpPr>
        <p:spPr>
          <a:xfrm>
            <a:off x="540540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0C56-950B-4C9B-90FC-44BFA04FCF4F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systemów zarządzania środowiskowego </a:t>
            </a:r>
            <a:br>
              <a:rPr sz="9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4920" y="206064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Niezgodność -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niespełnienie wymagania</a:t>
            </a: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Działania zapobiegawcze -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działania podjęte w celu wyeliminowania przyczyny potencjalnej niezgodności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0AF3-33FA-4ED2-A83A-7679928BD43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systemów zarządzania środowiskowego </a:t>
            </a:r>
            <a:br>
              <a:rPr sz="9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4920" y="206064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Korekcja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- działania w celu eliminacji niezgodności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Działania korygujące - 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działania w celu wyeliminowania przyczyny wykrytej niezgodności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DCAD-E5A6-4659-8392-D8F3DCD044C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systemów zarządzania środowiskowego </a:t>
            </a:r>
            <a:br>
              <a:rPr sz="9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94920" y="206064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Dokument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Informacja i jej nośnik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1: Nośnikiem może być papier, dysk komputerowy magnetyczny, elektroniczny lub optyczny, fotografia lub próbka wzorcowa albo kombinacja powyższych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0CDF-08BC-4AF8-8D88-B56FCE5FDEC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systemów zarządzania środowiskowego </a:t>
            </a:r>
            <a:br>
              <a:rPr sz="900"/>
            </a:b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94920" y="206064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Zap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Dokument, w którym przedstawiono uzyskane wyniki lub dowody przeprowadzonych działań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ISO 1400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0EB1-4E2B-4EB8-9F5A-AE4033A81AA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699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90c226"/>
                </a:solidFill>
                <a:latin typeface="Trebuchet MS"/>
              </a:rPr>
              <a:t>Udokumentowana informacja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4920" y="1557000"/>
            <a:ext cx="77058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00cc"/>
                </a:solidFill>
                <a:latin typeface="Trebuchet MS"/>
              </a:rPr>
              <a:t>Informacja, która powinna być nadzorowana i utrzymywana przez organizację oraz nośnik, na jakim jest zawart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Trebuchet MS"/>
              </a:rPr>
              <a:t>(Aktualna definicja określająca dokument i zapi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Udokumentowana informacja może być w dowolnej formie i na dowolnym rodzaju nośnika i może pochodzić z dowolnego źródł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Udokumentowane informacje mogą odnosić się do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Systemu zarządzania łącznie ze związanymi procesami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Informacji stworzonej pod kątem działalności organizacji (dokumentacja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Dowodów osiągania wyników (zapisy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3AB9-6295-417F-9F3D-3062AC9B140E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90c226"/>
                </a:solidFill>
                <a:latin typeface="Trebuchet MS"/>
              </a:rPr>
              <a:t>Terminy dotyczące auditowania </a:t>
            </a:r>
            <a:br>
              <a:rPr sz="3200"/>
            </a:br>
            <a:r>
              <a:rPr b="0" lang="pl-PL" sz="18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09480" y="170172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Audit wewnętrzn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systematyczny, niezależny i udokumentowany proces uzyskiwania dowodów z auditu oraz ich obiektywnej oceny, w celu określenia stopnia spełnienia kryteriów auditu systemu zarządzania środowiskowego ustalonych przez organizację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: w wielu przypadkach, szczególnie w mniejszych organizacjach, niezależność może być wykazana brakiem odpowiedzialności za działania w auditowanym obszarz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270B-4C5F-4F34-8193-FCF7ED6E3FD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946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90c226"/>
                </a:solidFill>
                <a:latin typeface="Trebuchet MS"/>
              </a:rPr>
              <a:t>Terminy dotyczące auditowania </a:t>
            </a:r>
            <a:br>
              <a:rPr sz="2800"/>
            </a:br>
            <a:r>
              <a:rPr b="0" lang="pl-PL" sz="16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1676160"/>
            <a:ext cx="81360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-287280">
              <a:spcBef>
                <a:spcPts val="1001"/>
              </a:spcBef>
              <a:tabLst>
                <a:tab algn="l" pos="0"/>
                <a:tab algn="l" pos="754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54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Kryteria auditu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754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Zestaw polityk, procedur lub wymagań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754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754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: kryteria auditu są stosowane jako odniesienie, które porównywane są z dowodami audit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0996-D008-4F40-A826-9C15151E647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90c226"/>
                </a:solidFill>
                <a:latin typeface="Trebuchet MS"/>
              </a:rPr>
              <a:t>Terminy dotyczące auditowania </a:t>
            </a:r>
            <a:br>
              <a:rPr sz="2800"/>
            </a:br>
            <a:r>
              <a:rPr b="0" lang="pl-PL" sz="16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5440" y="1341000"/>
            <a:ext cx="8134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Dowód z auditu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zapisy, stwierdzenie faktu lub inne informacje, które są istotne ze względu na kryteria auditu i możliwe do zweryfikowania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: Dowód z auditu może być jakościowy lub ilościowy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C620-BE53-4164-A89B-85783829500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90c226"/>
                </a:solidFill>
                <a:latin typeface="Trebuchet MS"/>
              </a:rPr>
              <a:t>Terminy dotyczące auditowania </a:t>
            </a:r>
            <a:br>
              <a:rPr sz="3200"/>
            </a:br>
            <a:r>
              <a:rPr b="0" lang="pl-PL" sz="16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5056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000" spc="-1" strike="noStrike">
                <a:solidFill>
                  <a:srgbClr val="404040"/>
                </a:solidFill>
                <a:latin typeface="Trebuchet MS"/>
              </a:rPr>
              <a:t>Ustalenia z auditu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000" spc="-1" strike="noStrike">
                <a:solidFill>
                  <a:srgbClr val="404040"/>
                </a:solidFill>
                <a:latin typeface="Trebuchet MS"/>
              </a:rPr>
              <a:t>Wyniki oceny zebranych dowodów z auditu w stosunku do kryteriów auditu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1  ustalenia z auditu wskazują  na zgodność albo niezgodność z kryteriami auditu lub na możliwości doskonaleni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19011]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304B-55A8-476B-B11E-FE62146B69E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90c226"/>
                </a:solidFill>
                <a:latin typeface="Trebuchet MS"/>
              </a:rPr>
              <a:t>Terminy dotyczące auditowania </a:t>
            </a:r>
            <a:br>
              <a:rPr sz="2800"/>
            </a:br>
            <a:r>
              <a:rPr b="0" lang="pl-PL" sz="16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4360" y="1447920"/>
            <a:ext cx="770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rebuchet MS"/>
              </a:rPr>
              <a:t>Wniosek z auditu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Wynik auditu przedstawiony przez zespół auditujący po rozważeniu celów auditu i wszystkich ustaleń z auditu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7f7f7f"/>
                </a:solidFill>
                <a:latin typeface="Trebuchet MS"/>
              </a:rPr>
              <a:t>[19011]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8254-30C0-4D07-A186-1E3F2FBCD9C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92280" y="41400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90c226"/>
                </a:solidFill>
                <a:latin typeface="Trebuchet MS"/>
              </a:rPr>
              <a:t>DEFINICJE 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480" y="1085400"/>
            <a:ext cx="8026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JAKOŚĆ TOTALN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Jest to optymalizacja zaspokojenia potrzeb klienta przy uzasadnionym koszcie i we właściwym momenc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ZAPEWNIENIE JAKOŚC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Trebuchet MS"/>
              </a:rPr>
              <a:t>Wszystkie planowane i systematyczne, </a:t>
            </a:r>
            <a:br>
              <a:rPr sz="2000"/>
            </a:br>
            <a:r>
              <a:rPr b="1" lang="pl-PL" sz="2000" spc="-1" strike="noStrike">
                <a:solidFill>
                  <a:srgbClr val="404040"/>
                </a:solidFill>
                <a:latin typeface="Trebuchet MS"/>
              </a:rPr>
              <a:t>a także jeśli to konieczne udowodnione działania realizowane </a:t>
            </a:r>
            <a:br>
              <a:rPr sz="2000"/>
            </a:br>
            <a:r>
              <a:rPr b="1" lang="pl-PL" sz="2000" spc="-1" strike="noStrike">
                <a:solidFill>
                  <a:srgbClr val="404040"/>
                </a:solidFill>
                <a:latin typeface="Trebuchet MS"/>
              </a:rPr>
              <a:t>w ramach systemu jakości służące do wzbudzenia należytego zaufania do tego, że obiekt spełni wymagania  jakościow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Symbol zastępczy daty 3"/>
          <p:cNvSpPr/>
          <p:nvPr/>
        </p:nvSpPr>
        <p:spPr>
          <a:xfrm>
            <a:off x="540540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2582-53B1-4F9E-83E6-15E462A4EED5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2SEX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2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  <p:animClr clrSpc="rgb">
                                <p:cBhvr>
                                  <p:cTn id="34" dur="1" fill="hold"/>
                                  <p:tgtEl>
                                    <p:spTgt spid="2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90c226"/>
                </a:solidFill>
                <a:latin typeface="Trebuchet MS"/>
              </a:rPr>
              <a:t>Terminy dotyczące auditowania </a:t>
            </a:r>
            <a:br>
              <a:rPr sz="3200"/>
            </a:br>
            <a:r>
              <a:rPr b="0" lang="pl-PL" sz="16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94920" y="1484280"/>
            <a:ext cx="849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600" spc="-1" strike="noStrike">
                <a:solidFill>
                  <a:srgbClr val="404040"/>
                </a:solidFill>
                <a:latin typeface="Trebuchet MS"/>
              </a:rPr>
              <a:t>Auditow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Organizacja która jest  auditowana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600" spc="-1" strike="noStrike">
                <a:solidFill>
                  <a:srgbClr val="404040"/>
                </a:solidFill>
                <a:latin typeface="Trebuchet MS"/>
              </a:rPr>
              <a:t>Klient auditu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Organizacja lub osoba  zlecająca przeprowadzenie  auditu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: klientem auditu może być sam auditowany lub inna organizacja, która jest uprawniona do zlecenia auditu na mocy przepisów lub umow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404040"/>
                </a:solidFill>
                <a:latin typeface="Trebuchet MS"/>
              </a:rPr>
              <a:t>[19011]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78FA-A6F7-49DA-B954-36F02439766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90c226"/>
                </a:solidFill>
                <a:latin typeface="Trebuchet MS"/>
              </a:rPr>
              <a:t>Terminy dotyczące auditowania </a:t>
            </a:r>
            <a:br>
              <a:rPr sz="3200"/>
            </a:br>
            <a:r>
              <a:rPr b="0" lang="pl-PL" sz="16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24000" y="1904760"/>
            <a:ext cx="820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Audito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Osoba, mająca kompetencje do przeprowadzenia auditu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Trebuchet MS"/>
              </a:rPr>
              <a:t>[ISO 14001]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12E4-D38A-465F-A404-0FEF1670A60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90c226"/>
                </a:solidFill>
                <a:latin typeface="Trebuchet MS"/>
              </a:rPr>
              <a:t>Terminy dotyczące auditowania </a:t>
            </a:r>
            <a:br>
              <a:rPr sz="3200"/>
            </a:br>
            <a:r>
              <a:rPr b="0" lang="pl-PL" sz="1600" spc="-1" strike="noStrike">
                <a:solidFill>
                  <a:srgbClr val="90c226"/>
                </a:solidFill>
                <a:latin typeface="Trebuchet MS"/>
              </a:rPr>
              <a:t> PN-EN-ISO 14050:2010</a:t>
            </a: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79280" y="1628640"/>
            <a:ext cx="8640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600" spc="-1" strike="noStrike">
                <a:solidFill>
                  <a:srgbClr val="404040"/>
                </a:solidFill>
                <a:latin typeface="Trebuchet MS"/>
              </a:rPr>
              <a:t>Auditor środowiskowy wiodąc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osoba mająca kwalifikacje do kierowania auditami środowiskowymi i ich wykonywania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600" spc="-1" strike="noStrike">
                <a:solidFill>
                  <a:srgbClr val="404040"/>
                </a:solidFill>
                <a:latin typeface="Trebuchet MS"/>
              </a:rPr>
              <a:t>Ekspert techniczny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Osoba, która służy  zespołowi auditującemu specjalistyczną wiedzę lub umiejętnościami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1 Określona wiedza lub umiejętności specjalistyczne odnoszą się do organizacji, procesu lub działalności podlegających auditowaniu oraz do znajomości języka lub kultur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2 Ekspert techniczny nie działa w zespole auditującym jako auditor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28A8-5A25-43D3-A694-7D0364A3C95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90c226"/>
                </a:solidFill>
                <a:latin typeface="Trebuchet MS"/>
              </a:rPr>
              <a:t>Terminy dotyczące analizy cyklu życia </a:t>
            </a:r>
            <a:br>
              <a:rPr sz="2800"/>
            </a:br>
            <a:r>
              <a:rPr b="0" lang="pl-PL" sz="1600" spc="-1" strike="noStrike">
                <a:solidFill>
                  <a:srgbClr val="90c226"/>
                </a:solidFill>
                <a:latin typeface="Trebuchet MS"/>
              </a:rPr>
              <a:t>PN-EN-ISO 14050:2010</a:t>
            </a: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560" y="1341000"/>
            <a:ext cx="84582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Cykl życia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Kolejne i powiązane ze sobą etapy systemu wyrobu od pozyskania lub wytworzenia surowca z zasobów naturalnych do ostatecznej likwidacji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Trebuchet MS"/>
              </a:rPr>
              <a:t>[ISO 14040]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6638-DB31-40AA-ABB2-B3B4E75EADD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90c226"/>
                </a:solidFill>
                <a:latin typeface="Trebuchet MS"/>
              </a:rPr>
              <a:t>Terminy dotyczące analizy cyklu życia </a:t>
            </a:r>
            <a:br>
              <a:rPr sz="2800"/>
            </a:br>
            <a:r>
              <a:rPr b="0" lang="pl-PL" sz="1600" spc="-1" strike="noStrike">
                <a:solidFill>
                  <a:srgbClr val="90c226"/>
                </a:solidFill>
                <a:latin typeface="Trebuchet MS"/>
              </a:rPr>
              <a:t>PN-EN-ISO 14050:2010</a:t>
            </a: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560" y="1341000"/>
            <a:ext cx="84582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Ocena cyklu życia LC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Zebranie i ocena wejść i wyjść oraz potencjalnych wpływów na środowisko systemu wyrobu w okresie jego cyklu życia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Trebuchet MS"/>
              </a:rPr>
              <a:t>[ISO 14040]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0B2D-E878-45DE-8364-1E6F0BA9EDD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etykietowania środowiskowego </a:t>
            </a: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539640" y="1557360"/>
            <a:ext cx="8097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Stwierdzenie środowiskow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Oświadczenie, symbol lub znak graficzny, które wskazują na aspekt środowiskowy wyrobu, składnika lub opakowania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: stwierdzenie środowiskowe może być umieszczone na wyrobie lub etykiecie na opakowaniu, w piśmiennictwie dotyczącym dot. wyrobu, w biuletynach technicznych, w ogłoszeniu, w reklamie, telemarketingu, jak również w mediach cyfrowych lub elektronicznych, takich jak Internet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FDA2-3E00-48B9-8D7F-59300F39922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500" spc="-1" strike="noStrike">
                <a:solidFill>
                  <a:srgbClr val="90c226"/>
                </a:solidFill>
                <a:latin typeface="Trebuchet MS"/>
              </a:rPr>
              <a:t>Terminy dotyczące etykietowania środowiskowego </a:t>
            </a:r>
            <a:r>
              <a:rPr b="0" lang="pl-PL" sz="1400" spc="-1" strike="noStrike">
                <a:solidFill>
                  <a:srgbClr val="90c226"/>
                </a:solidFill>
                <a:latin typeface="Trebuchet MS"/>
              </a:rPr>
              <a:t>PN-EN-ISO 14050:2010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928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Etykieta środowiskowa – deklaracja środowiskow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Stwierdzenie, które określa aspekty środowiskowe wyrobu lub usługi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Trebuchet MS"/>
              </a:rPr>
              <a:t>Uwaga: Etykieta lub deklaracja środowiskowa może przybierać m.in. formę oświadczenia, symbolu lub znaku graficznego na wyrobie lub naklejce na opakowaniu, w piśmiennictwie dot. wyrobu, biuletynach technicznych, ogłoszeniu lub reklami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500" spc="-1" strike="noStrike">
                <a:solidFill>
                  <a:srgbClr val="404040"/>
                </a:solidFill>
                <a:latin typeface="Trebuchet MS"/>
              </a:rPr>
              <a:t>[ISO 14020]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Kryteria środowiskowe wyrobu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Wymagania środowiskowe, które powinien spełniać wyrób w celu przyznania etykiety środowiskowej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500" spc="-1" strike="noStrike">
                <a:solidFill>
                  <a:srgbClr val="404040"/>
                </a:solidFill>
                <a:latin typeface="Trebuchet MS"/>
              </a:rPr>
              <a:t>[ISO 14024]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5F76-CB7F-47F1-8B42-7947543C7BB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9200"/>
            <a:ext cx="7715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Niniejsza norma międzynarodowa stosuje następujące formy słown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„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owinien</a:t>
            </a:r>
            <a:r>
              <a:rPr b="1" lang="pl-PL" sz="2000" spc="-1" strike="noStrike">
                <a:solidFill>
                  <a:srgbClr val="404040"/>
                </a:solidFill>
                <a:latin typeface="Trebuchet MS"/>
              </a:rPr>
              <a:t>”</a:t>
            </a: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, „</a:t>
            </a:r>
            <a:r>
              <a:rPr b="1" lang="pl-PL" sz="2000" spc="-1" strike="noStrike">
                <a:solidFill>
                  <a:srgbClr val="404040"/>
                </a:solidFill>
                <a:latin typeface="Trebuchet MS"/>
              </a:rPr>
              <a:t>należy</a:t>
            </a: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”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oznacza wymagani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„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zaleca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i</a:t>
            </a:r>
            <a:r>
              <a:rPr b="1" lang="pl-PL" sz="2000" spc="-1" strike="noStrike">
                <a:solidFill>
                  <a:srgbClr val="404040"/>
                </a:solidFill>
                <a:latin typeface="Trebuchet MS"/>
              </a:rPr>
              <a:t>ę”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oznacza zaleceni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„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opuszcza się</a:t>
            </a:r>
            <a:r>
              <a:rPr b="1" lang="pl-PL" sz="2000" spc="-1" strike="noStrike">
                <a:solidFill>
                  <a:srgbClr val="404040"/>
                </a:solidFill>
                <a:latin typeface="Trebuchet MS"/>
              </a:rPr>
              <a:t>”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oznacza </a:t>
            </a: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dopuszczenie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„</a:t>
            </a:r>
            <a:r>
              <a:rPr b="1" lang="pl-PL" sz="2000" spc="-1" strike="noStrike">
                <a:solidFill>
                  <a:srgbClr val="404040"/>
                </a:solidFill>
                <a:latin typeface="Trebuchet MS"/>
              </a:rPr>
              <a:t>może”</a:t>
            </a: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 oznacza możliwość lub zdolność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Informacja oznaczona jako "</a:t>
            </a:r>
            <a:r>
              <a:rPr b="1" lang="pl-PL" sz="2000" spc="-1" strike="noStrike">
                <a:solidFill>
                  <a:srgbClr val="404040"/>
                </a:solidFill>
                <a:latin typeface="Trebuchet MS"/>
              </a:rPr>
              <a:t>UWAGA</a:t>
            </a: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" ma na celu ułatwienie zrozumienia lub stosowania  norm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Symbol zastępczy numeru slajdu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2F68-F0DC-41A6-B99B-18ADE02EE460}" type="slidenum">
              <a:rPr b="1" lang="pl-PL" sz="1100" spc="-1" strike="noStrike">
                <a:solidFill>
                  <a:srgbClr val="2c3c43"/>
                </a:solidFill>
                <a:latin typeface="Times New Roman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600" spc="-1" strike="noStrike">
                <a:solidFill>
                  <a:srgbClr val="90c226"/>
                </a:solidFill>
                <a:latin typeface="Trebuchet MS"/>
              </a:rPr>
              <a:t>System jakości   </a:t>
            </a:r>
            <a:r>
              <a:rPr b="0" lang="pl-PL" sz="2400" spc="-1" strike="noStrike">
                <a:solidFill>
                  <a:srgbClr val="90c226"/>
                </a:solidFill>
                <a:latin typeface="Trebuchet MS"/>
              </a:rPr>
              <a:t>(ISO 8402:1994)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07960" y="1793520"/>
            <a:ext cx="8283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spcAft>
                <a:spcPts val="85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struktura organizacyjna, rozłożenie odpowiedzialności, procedury, procesy </a:t>
            </a:r>
            <a:br>
              <a:rPr sz="2000"/>
            </a:br>
            <a:r>
              <a:rPr b="0" lang="pl-PL" sz="2000" spc="-1" strike="noStrike">
                <a:solidFill>
                  <a:srgbClr val="404040"/>
                </a:solidFill>
                <a:latin typeface="Trebuchet MS"/>
              </a:rPr>
              <a:t>i zasoby umożliwiające zarządzanie jakością.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pl-PL" sz="1800" spc="-1" strike="noStrike">
                <a:solidFill>
                  <a:srgbClr val="404040"/>
                </a:solidFill>
                <a:latin typeface="Trebuchet MS"/>
              </a:rPr>
              <a:t>System jakości powinien być tylko tak rozległy, jak to jest potrzebne do spełnienia celów jakości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Symbol zastępczy daty 3"/>
          <p:cNvSpPr/>
          <p:nvPr/>
        </p:nvSpPr>
        <p:spPr>
          <a:xfrm>
            <a:off x="540540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0C9E-014D-430E-A94D-1F5167AA45A4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88840" y="437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900" spc="-1" strike="noStrike">
                <a:solidFill>
                  <a:srgbClr val="90c226"/>
                </a:solidFill>
                <a:latin typeface="Trebuchet MS"/>
              </a:rPr>
              <a:t>DEFINICJE </a:t>
            </a:r>
            <a:br>
              <a:rPr sz="2900"/>
            </a:br>
            <a:r>
              <a:rPr b="1" lang="pl-PL" sz="2900" spc="-1" strike="noStrike">
                <a:solidFill>
                  <a:srgbClr val="90c226"/>
                </a:solidFill>
                <a:latin typeface="Trebuchet MS"/>
              </a:rPr>
              <a:t>SYSTEM JAKOŚCI</a:t>
            </a:r>
            <a:r>
              <a:rPr b="0" lang="pl-PL" sz="3200" spc="-1" strike="noStrike">
                <a:solidFill>
                  <a:srgbClr val="90c226"/>
                </a:solidFill>
                <a:latin typeface="PL TimpaniHeavy"/>
              </a:rPr>
              <a:t>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176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rebuchet MS"/>
              </a:rPr>
              <a:t>Wg  przemysłowych norm japońskich</a:t>
            </a:r>
            <a:r>
              <a:rPr b="1" lang="pl-PL" sz="2400" spc="-1" strike="noStrike">
                <a:solidFill>
                  <a:srgbClr val="ff66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Jest to system środków dla ekonomicznej produkcji wyrobów lub usług posiadających jakość, która odpowiada wymaganiom klien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rebuchet MS"/>
              </a:rPr>
              <a:t>Wg Kaoru Ishikawa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Trebuchet MS"/>
              </a:rPr>
              <a:t>Chodzi o to, by rozwijać, tworzyć i  produkować wyroby jak najbardziej ekonomiczne, jak najbardziej użyteczne i jak najbardziej zadowalające klien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Symbol zastępczy daty 3"/>
          <p:cNvSpPr/>
          <p:nvPr/>
        </p:nvSpPr>
        <p:spPr>
          <a:xfrm>
            <a:off x="540540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06A1-4867-4C64-B607-78BB06FECB1B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pull dir="d"/>
    <p:sndAc>
      <p:stSnd>
        <p:snd r:embed="rId1" name="0_BAM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AS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20840" y="474840"/>
            <a:ext cx="740088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90c226"/>
                </a:solidFill>
                <a:latin typeface="Trebuchet MS"/>
              </a:rPr>
              <a:t>System zarządzania jakością   </a:t>
            </a:r>
            <a:r>
              <a:rPr b="0" lang="pl-PL" sz="22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pl-PL" sz="22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pl-PL" sz="22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pl-PL" sz="22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pl-PL" sz="22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pl-PL" sz="2200" spc="-1" strike="noStrike">
                <a:solidFill>
                  <a:srgbClr val="90c226"/>
                </a:solidFill>
                <a:latin typeface="Trebuchet MS"/>
              </a:rPr>
              <a:t>ISO 9000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7960" y="1793520"/>
            <a:ext cx="8283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System zarządzania do kierowania organizacją i jej nadzorowania </a:t>
            </a:r>
            <a:br>
              <a:rPr sz="2800"/>
            </a:br>
            <a:r>
              <a:rPr b="0" lang="pl-PL" sz="2800" spc="-1" strike="noStrike">
                <a:solidFill>
                  <a:srgbClr val="404040"/>
                </a:solidFill>
                <a:latin typeface="Trebuchet MS"/>
              </a:rPr>
              <a:t>w odniesieniu do jakości</a:t>
            </a:r>
            <a:r>
              <a:rPr b="0" lang="pl-PL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4000" spc="-1" strike="noStrike">
                <a:solidFill>
                  <a:srgbClr val="404040"/>
                </a:solidFill>
                <a:latin typeface="Trebuchet MS"/>
              </a:rPr>
              <a:t>System zarządzania</a:t>
            </a:r>
            <a:r>
              <a:rPr b="0" lang="pl-PL" sz="3600" spc="-1" strike="noStrike">
                <a:solidFill>
                  <a:srgbClr val="ebebeb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System do ustanawiania polityki i celów </a:t>
            </a:r>
            <a:br>
              <a:rPr sz="2800"/>
            </a:br>
            <a:r>
              <a:rPr b="1" lang="pl-PL" sz="2800" spc="-1" strike="noStrike">
                <a:solidFill>
                  <a:srgbClr val="404040"/>
                </a:solidFill>
                <a:latin typeface="Trebuchet MS"/>
              </a:rPr>
              <a:t>i osiągania tych celów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Symbol zastępczy daty 3"/>
          <p:cNvSpPr/>
          <p:nvPr/>
        </p:nvSpPr>
        <p:spPr>
          <a:xfrm>
            <a:off x="540540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5C3C-270C-4724-89B1-06B26659F629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90c226"/>
                </a:solidFill>
                <a:latin typeface="Trebuchet MS"/>
              </a:rPr>
              <a:t>ZARZĄDZANIE JAKOŚCIĄ</a:t>
            </a:r>
            <a:r>
              <a:rPr b="0" lang="pl-PL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335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Trebuchet MS"/>
              </a:rPr>
              <a:t>Wszystkie działania z zakresu ogólnej funkcji zarządzania, które decydują o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pl-PL" sz="2200" spc="-1" strike="noStrike">
                <a:solidFill>
                  <a:srgbClr val="404040"/>
                </a:solidFill>
                <a:latin typeface="Trebuchet MS"/>
              </a:rPr>
              <a:t>polityce jakości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Trebuchet MS"/>
              </a:rPr>
              <a:t>celach i zadaniach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900" spc="-1" strike="noStrike">
                <a:solidFill>
                  <a:srgbClr val="404040"/>
                </a:solidFill>
                <a:latin typeface="Trebuchet MS"/>
              </a:rPr>
              <a:t>oraz o ich realizacji w ramach systemu jakości za pomocą takich środków jak: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Trebuchet MS"/>
              </a:rPr>
              <a:t>planowanie jakości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Trebuchet MS"/>
              </a:rPr>
              <a:t>sterowanie jakością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Trebuchet MS"/>
              </a:rPr>
              <a:t>zapewnienie jakości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Trebuchet MS"/>
              </a:rPr>
              <a:t>doskonalenie jakości</a:t>
            </a:r>
            <a:r>
              <a:rPr b="0" lang="pl-P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Symbol zastępczy daty 3"/>
          <p:cNvSpPr/>
          <p:nvPr/>
        </p:nvSpPr>
        <p:spPr>
          <a:xfrm>
            <a:off x="540540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ymbol zastępczy numeru slajdu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02C1-5D4F-4916-BC25-C8389142B269}" type="slidenum">
              <a:rPr b="1" lang="pl-P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0_B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AAA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AAA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AAA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AAA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AAA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AAA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AAA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AAA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6:59:50Z</dcterms:created>
  <dc:creator>Computr</dc:creator>
  <dc:description/>
  <dc:language>en-US</dc:language>
  <cp:lastModifiedBy>Katarzyna</cp:lastModifiedBy>
  <dcterms:modified xsi:type="dcterms:W3CDTF">2023-01-11T18:45:01Z</dcterms:modified>
  <cp:revision>197</cp:revision>
  <dc:subject/>
  <dc:title>TERMINY I DEFINICJE PN-ISO 14050:2000</dc:title>
</cp:coreProperties>
</file>